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09600" y="744120"/>
            <a:ext cx="25779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24E9-114C-4C0F-B7D8-E97AF0DF0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109960" y="744480"/>
            <a:ext cx="2577960" cy="372276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E8B3-40FC-4B7F-BDD0-6FDCE6BB0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FD4-708D-4027-B6DE-79BB02D8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A7C-F1C7-422B-87A7-B7FF9B21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43A-A0B1-4BD5-98D7-025BE297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145-0D2D-4C62-9052-7AE52BDC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E3F-DAB6-40F8-ADB5-57072542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0BB-EBE9-4372-886F-41DE15CB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B5A-1A21-4581-9381-9475DF5D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E4C-C1D8-47F7-A711-DF4CCC1A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120"/>
            <a:ext cx="5829120" cy="76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8F2-81DE-4459-A69B-1FE0121B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2F9-17A2-452B-9135-39674C3D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664-659C-46F7-A242-F6053870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930-52F6-4A30-95C7-169E3DEF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6000"/>
          </a:bodyPr>
          <a:p>
            <a:pPr marL="327240" indent="-3272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714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32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1800" indent="-218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D261-47DB-42CA-89DB-3E0683579AE7}" type="slidenum"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lshtm.ac.uk/aboutus/organisation/information-management-and-security" TargetMode="External"/><Relationship Id="rId2" Type="http://schemas.openxmlformats.org/officeDocument/2006/relationships/hyperlink" Target="https://lshtm.sharepoint.com/sites/intranet-it-services/SitePages/Guidance-on-IT-Storage.aspx?web=1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-8280360" y="3084480"/>
            <a:ext cx="1839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74600" y="1019160"/>
            <a:ext cx="644364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Research files must be stored in a managed environment that complies with relevant requirements (legal, ethical, regulatory, contractual, other) throughout the life of a research study and following its comple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6057"/>
                </a:solidFill>
                <a:latin typeface="Open Sans"/>
                <a:ea typeface="Open Sans"/>
              </a:rPr>
              <a:t>Factors to consider when choosing a storag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Several factors should be considered when choosing a storage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Amount of storage available – is it sufficient to store large files produced by the research stu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Storage location – is it located in a country that complies with the data protection, ethical, contractual, and/or other requirements that apply to your resea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Security measures in place – does the system allow you to control who is able to view and edit files? Can it monitor when unauthorized access and changes have happe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Certification - has the system been approved for use with the files with which you’re working, as defined by the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Open Sans"/>
                <a:ea typeface="Open Sans"/>
                <a:hlinkClick r:id="rId1"/>
              </a:rPr>
              <a:t>LSHTM Data Classification and Handling Policy</a:t>
            </a: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Access methods – will the project team, including LSHTM users and external collaborators, be able to access storage in the locations where they will be work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Time period that files will be stored – is it sufficient to comply with university, funder, and other retention requir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Removal policy – will files be removed from primary and secondary storage when you delete them, or will your ability to access to the files simply be remo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7040" y="6991200"/>
          <a:ext cx="6361200" cy="1209960"/>
        </p:xfrm>
        <a:graphic>
          <a:graphicData uri="http://schemas.openxmlformats.org/drawingml/2006/table">
            <a:tbl>
              <a:tblPr/>
              <a:tblGrid>
                <a:gridCol w="6361200"/>
              </a:tblGrid>
              <a:tr h="125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US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LSHTM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An overview to LSHTM storage systems can be found in the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2"/>
                        </a:rPr>
                        <a:t>IT Storage Guidance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on Sharepoint and 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Storage Options guide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on the LSHTM websi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Staff/student training is available through the LSHTM Doctoral Transferable Skills and Talent and Education Development (TED) programm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81"/>
          <p:cNvSpPr/>
          <p:nvPr/>
        </p:nvSpPr>
        <p:spPr>
          <a:xfrm>
            <a:off x="0" y="9620280"/>
            <a:ext cx="6873840" cy="2858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101520" y="9653760"/>
            <a:ext cx="495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Improving health world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172120" y="96537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ww.lshtm.ac.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6873840" cy="9320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174600" y="23220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Store your research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42" descr="lshtm_logo WO.tif"/>
          <p:cNvPicPr/>
          <p:nvPr/>
        </p:nvPicPr>
        <p:blipFill>
          <a:blip r:embed="rId3"/>
          <a:stretch/>
        </p:blipFill>
        <p:spPr>
          <a:xfrm>
            <a:off x="5432400" y="135000"/>
            <a:ext cx="124776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257040" y="8459640"/>
          <a:ext cx="6361200" cy="771840"/>
        </p:xfrm>
        <a:graphic>
          <a:graphicData uri="http://schemas.openxmlformats.org/drawingml/2006/table">
            <a:tbl>
              <a:tblPr/>
              <a:tblGrid>
                <a:gridCol w="6361200"/>
              </a:tblGrid>
              <a:tr h="78516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Book an appoin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To discuss your data security arrangements, contact the LSHTM Research Data Management Service at researchdatamanagement@lshtm.ac.u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1"/>
          <p:cNvSpPr/>
          <p:nvPr/>
        </p:nvSpPr>
        <p:spPr>
          <a:xfrm>
            <a:off x="3503520" y="9416880"/>
            <a:ext cx="329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Open Sans"/>
                <a:ea typeface="Open Sans"/>
              </a:rPr>
              <a:t>https://doi.org/10.17037/DATA.50. Reviewed: September 1, 20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9T12:19:10Z</dcterms:created>
  <dc:creator>Anne Koerber</dc:creator>
  <dc:description/>
  <dc:language>en-US</dc:language>
  <cp:lastModifiedBy>Gareth Knight</cp:lastModifiedBy>
  <cp:lastPrinted>2017-07-05T08:56:51Z</cp:lastPrinted>
  <dcterms:modified xsi:type="dcterms:W3CDTF">2025-09-01T15:07:07Z</dcterms:modified>
  <cp:revision>626</cp:revision>
  <dc:subject/>
  <dc:title>PowerPoint Presentation</dc:title>
</cp:coreProperties>
</file>