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6858000" cy="9907588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09600" y="744120"/>
            <a:ext cx="257796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74"/>
              </a:spcBef>
              <a:buNone/>
              <a:tabLst>
                <a:tab algn="l" pos="0"/>
                <a:tab algn="l" pos="104760"/>
                <a:tab algn="l" pos="209520"/>
                <a:tab algn="l" pos="314280"/>
                <a:tab algn="l" pos="419040"/>
                <a:tab algn="l" pos="523800"/>
                <a:tab algn="l" pos="628560"/>
                <a:tab algn="l" pos="733320"/>
                <a:tab algn="l" pos="838080"/>
                <a:tab algn="l" pos="942840"/>
                <a:tab algn="l" pos="1047600"/>
                <a:tab algn="l" pos="1152360"/>
                <a:tab algn="l" pos="1257480"/>
                <a:tab algn="l" pos="1362240"/>
                <a:tab algn="l" pos="1467000"/>
                <a:tab algn="l" pos="1571760"/>
                <a:tab algn="l" pos="1676520"/>
                <a:tab algn="l" pos="1781280"/>
                <a:tab algn="l" pos="1886040"/>
                <a:tab algn="l" pos="1990800"/>
                <a:tab algn="l" pos="209556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12EFC-3455-4AF4-8611-6515F54AEA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2109960" y="744480"/>
            <a:ext cx="2577960" cy="372276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4"/>
              </a:spcBef>
              <a:buNone/>
              <a:tabLst>
                <a:tab algn="l" pos="0"/>
                <a:tab algn="l" pos="104760"/>
                <a:tab algn="l" pos="209520"/>
                <a:tab algn="l" pos="314280"/>
                <a:tab algn="l" pos="419040"/>
                <a:tab algn="l" pos="523800"/>
                <a:tab algn="l" pos="628560"/>
                <a:tab algn="l" pos="733320"/>
                <a:tab algn="l" pos="838080"/>
                <a:tab algn="l" pos="942840"/>
                <a:tab algn="l" pos="1047600"/>
                <a:tab algn="l" pos="1152360"/>
                <a:tab algn="l" pos="1257480"/>
                <a:tab algn="l" pos="1362240"/>
                <a:tab algn="l" pos="1467000"/>
                <a:tab algn="l" pos="1571760"/>
                <a:tab algn="l" pos="1676520"/>
                <a:tab algn="l" pos="1781280"/>
                <a:tab algn="l" pos="1886040"/>
                <a:tab algn="l" pos="1990800"/>
                <a:tab algn="l" pos="2095560"/>
              </a:tabLst>
            </a:pP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4A1AF-279F-402F-9B70-BB7E4FDA06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AFEA-B46B-4B62-8228-27119E92D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79120"/>
            <a:ext cx="5829120" cy="165276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A34D-55FD-47C9-BC6F-319767DAB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79120"/>
            <a:ext cx="5829120" cy="165276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4548-332A-4F69-B001-E2EEAFAB0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79120"/>
            <a:ext cx="5829120" cy="165276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 fontScale="87000"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 fontScale="87000"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 fontScale="87000"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 fontScale="87000"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 fontScale="87000"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 fontScale="87000"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EFA8-F141-4683-B2F7-C5328AE71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79120"/>
            <a:ext cx="5829120" cy="165276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821C-3C0E-47A1-ABB9-F7994E5ED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79120"/>
            <a:ext cx="5829120" cy="165276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BC52-1821-4CCF-8283-2C85158F4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79120"/>
            <a:ext cx="5829120" cy="165276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F2E3-5E38-46C8-AFF1-D7BCAD4F4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79120"/>
            <a:ext cx="5829120" cy="165276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286C-67F8-4405-86A2-5E5C0B947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79120"/>
            <a:ext cx="5829120" cy="76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50ED-5193-4CCA-8D03-1ACBB176D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79120"/>
            <a:ext cx="5829120" cy="165276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3263-DB73-4BA7-96E7-D22E633FF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79120"/>
            <a:ext cx="5829120" cy="165276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B61E-76B7-4E79-9F30-9BCB21ED9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79120"/>
            <a:ext cx="5829120" cy="165276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3FCE-29ED-4E1C-8402-F49224D8A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79120"/>
            <a:ext cx="5829120" cy="165276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 fontScale="86000"/>
          </a:bodyPr>
          <a:p>
            <a:pPr marL="327240" indent="-327240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1" marL="709560" indent="-271440">
              <a:spcBef>
                <a:spcPts val="876"/>
              </a:spcBef>
              <a:buClr>
                <a:srgbClr val="000000"/>
              </a:buClr>
              <a:buFont typeface="Times New Roman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3320" indent="-218160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3" marL="1531800" indent="-218520">
              <a:spcBef>
                <a:spcPts val="876"/>
              </a:spcBef>
              <a:buClr>
                <a:srgbClr val="000000"/>
              </a:buClr>
              <a:buFont typeface="Times New Roman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4" marL="1967040" indent="-218160">
              <a:spcBef>
                <a:spcPts val="876"/>
              </a:spcBef>
              <a:buClr>
                <a:srgbClr val="000000"/>
              </a:buClr>
              <a:buFont typeface="Times New Roman"/>
              <a:buChar char="»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5" marL="1967040" indent="-218160">
              <a:spcBef>
                <a:spcPts val="876"/>
              </a:spcBef>
              <a:buClr>
                <a:srgbClr val="000000"/>
              </a:buClr>
              <a:buFont typeface="Times New Roman"/>
              <a:buChar char="»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6" marL="1967040" indent="-218160">
              <a:spcBef>
                <a:spcPts val="876"/>
              </a:spcBef>
              <a:buClr>
                <a:srgbClr val="000000"/>
              </a:buClr>
              <a:buFont typeface="Times New Roman"/>
              <a:buChar char="»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6640"/>
            <a:ext cx="1428840" cy="6588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6640"/>
            <a:ext cx="2171520" cy="6588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6640"/>
            <a:ext cx="1428480" cy="6588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9996B-1A6D-4B1C-9200-4BE50B9DED8D}" type="slidenum"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s://doi.org/10.17037/PUBS.03716765" TargetMode="External"/><Relationship Id="rId2" Type="http://schemas.openxmlformats.org/officeDocument/2006/relationships/hyperlink" Target="https://lshtm.sharepoint.com/sites/intranet-research-governance-and-integrity/SitePages/Standard-Operating-Procedures-(SOPs).aspx" TargetMode="External"/><Relationship Id="rId3" Type="http://schemas.openxmlformats.org/officeDocument/2006/relationships/hyperlink" Target="https://www.lshtm.ac.uk/sites/default/files/research_data_management_policy.pdf" TargetMode="External"/><Relationship Id="rId4" Type="http://schemas.openxmlformats.org/officeDocument/2006/relationships/image" Target="../media/image1.png"/><Relationship Id="rId5" Type="http://schemas.openxmlformats.org/officeDocument/2006/relationships/hyperlink" Target="https://lshtm.sharepoint.com/sites/intranet-library-archive-and-open-research-services/SitePages/Research-Data-Management.aspx" TargetMode="External"/><Relationship Id="rId6" Type="http://schemas.openxmlformats.org/officeDocument/2006/relationships/hyperlink" Target="https://lshtm.topdesk.net/tas/public/ssp/content/detail/service?unid=2faf1cff0982450693be797b3fefa950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3"/>
          <p:cNvSpPr/>
          <p:nvPr/>
        </p:nvSpPr>
        <p:spPr>
          <a:xfrm>
            <a:off x="-8280360" y="3084480"/>
            <a:ext cx="183960" cy="1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231840" y="1036800"/>
            <a:ext cx="6465960" cy="11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Open Sans"/>
                <a:ea typeface="Open Sans"/>
              </a:rPr>
              <a:t>A Data Management Plan is a document that describes how research data will be handled during a project and following its completion. LSHTM researchers should prepare a Data Management Plan for their project at the earliest opportun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249120" y="2309760"/>
          <a:ext cx="6419880" cy="4502160"/>
        </p:xfrm>
        <a:graphic>
          <a:graphicData uri="http://schemas.openxmlformats.org/drawingml/2006/table">
            <a:tbl>
              <a:tblPr/>
              <a:tblGrid>
                <a:gridCol w="6419880"/>
              </a:tblGrid>
              <a:tr h="45957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206280"/>
                          <a:tab algn="l" pos="412920"/>
                          <a:tab algn="l" pos="619200"/>
                          <a:tab algn="l" pos="825480"/>
                          <a:tab algn="l" pos="1031760"/>
                          <a:tab algn="l" pos="1238400"/>
                          <a:tab algn="l" pos="1444680"/>
                          <a:tab algn="l" pos="1650960"/>
                          <a:tab algn="l" pos="1857240"/>
                          <a:tab algn="l" pos="2063880"/>
                          <a:tab algn="l" pos="2270160"/>
                          <a:tab algn="l" pos="2476440"/>
                          <a:tab algn="l" pos="2682720"/>
                          <a:tab algn="l" pos="2889360"/>
                          <a:tab algn="l" pos="3095640"/>
                          <a:tab algn="l" pos="3301920"/>
                          <a:tab algn="l" pos="3508200"/>
                          <a:tab algn="l" pos="3714840"/>
                          <a:tab algn="l" pos="3921120"/>
                          <a:tab algn="l" pos="4127400"/>
                        </a:tabLst>
                      </a:pPr>
                      <a:r>
                        <a:rPr b="0" lang="en-GB" sz="1400" spc="-1" strike="noStrike">
                          <a:solidFill>
                            <a:srgbClr val="1f6057"/>
                          </a:solidFill>
                          <a:latin typeface="Open Sans"/>
                          <a:ea typeface="Open Sans"/>
                        </a:rPr>
                        <a:t>LSHTM expectations for data management planning</a:t>
                      </a:r>
                      <a:br>
                        <a:rPr sz="1200"/>
                      </a:b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Open Sans"/>
                          <a:ea typeface="Open Sans"/>
                        </a:rPr>
                        <a:t>Public or private funded projects that are capturing or creating data </a:t>
                      </a:r>
                      <a:r>
                        <a:rPr b="0" lang="en-GB" sz="1200" spc="-1" strike="noStrike" u="sng">
                          <a:solidFill>
                            <a:srgbClr val="000000"/>
                          </a:solidFill>
                          <a:uFillTx/>
                          <a:latin typeface="Open Sans"/>
                          <a:ea typeface="Open Sans"/>
                        </a:rPr>
                        <a:t>must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Open Sans"/>
                          <a:ea typeface="Open Sans"/>
                        </a:rPr>
                        <a:t> prepare a Data Management Plan to ensure adequate steps are taken to manage research files.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206280"/>
                          <a:tab algn="l" pos="412920"/>
                          <a:tab algn="l" pos="619200"/>
                          <a:tab algn="l" pos="825480"/>
                          <a:tab algn="l" pos="1031760"/>
                          <a:tab algn="l" pos="1238400"/>
                          <a:tab algn="l" pos="1444680"/>
                          <a:tab algn="l" pos="1650960"/>
                          <a:tab algn="l" pos="1857240"/>
                          <a:tab algn="l" pos="2063880"/>
                          <a:tab algn="l" pos="2270160"/>
                          <a:tab algn="l" pos="2476440"/>
                          <a:tab algn="l" pos="2682720"/>
                          <a:tab algn="l" pos="2889360"/>
                          <a:tab algn="l" pos="3095640"/>
                          <a:tab algn="l" pos="3301920"/>
                          <a:tab algn="l" pos="3508200"/>
                          <a:tab algn="l" pos="3714840"/>
                          <a:tab algn="l" pos="3921120"/>
                          <a:tab algn="l" pos="4127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Open Sans"/>
                          <a:ea typeface="Open Sans"/>
                        </a:rPr>
                        <a:t>Consultancy work, unfunded research and projects without a data component are exempt from LSHTM’s DMP requirement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206280"/>
                          <a:tab algn="l" pos="412920"/>
                          <a:tab algn="l" pos="619200"/>
                          <a:tab algn="l" pos="825480"/>
                          <a:tab algn="l" pos="1031760"/>
                          <a:tab algn="l" pos="1238400"/>
                          <a:tab algn="l" pos="1444680"/>
                          <a:tab algn="l" pos="1650960"/>
                          <a:tab algn="l" pos="1857240"/>
                          <a:tab algn="l" pos="2063880"/>
                          <a:tab algn="l" pos="2270160"/>
                          <a:tab algn="l" pos="2476440"/>
                          <a:tab algn="l" pos="2682720"/>
                          <a:tab algn="l" pos="2889360"/>
                          <a:tab algn="l" pos="3095640"/>
                          <a:tab algn="l" pos="3301920"/>
                          <a:tab algn="l" pos="3508200"/>
                          <a:tab algn="l" pos="3714840"/>
                          <a:tab algn="l" pos="3921120"/>
                          <a:tab algn="l" pos="4127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206280"/>
                          <a:tab algn="l" pos="412920"/>
                          <a:tab algn="l" pos="619200"/>
                          <a:tab algn="l" pos="825480"/>
                          <a:tab algn="l" pos="1031760"/>
                          <a:tab algn="l" pos="1238400"/>
                          <a:tab algn="l" pos="1444680"/>
                          <a:tab algn="l" pos="1650960"/>
                          <a:tab algn="l" pos="1857240"/>
                          <a:tab algn="l" pos="2063880"/>
                          <a:tab algn="l" pos="2270160"/>
                          <a:tab algn="l" pos="2476440"/>
                          <a:tab algn="l" pos="2682720"/>
                          <a:tab algn="l" pos="2889360"/>
                          <a:tab algn="l" pos="3095640"/>
                          <a:tab algn="l" pos="3301920"/>
                          <a:tab algn="l" pos="3508200"/>
                          <a:tab algn="l" pos="3714840"/>
                          <a:tab algn="l" pos="3921120"/>
                          <a:tab algn="l" pos="4127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Open Sans"/>
                          <a:ea typeface="Open Sans"/>
                        </a:rPr>
                        <a:t>If your research funder does not provide a DMP template, the LSHTM template at </a:t>
                      </a:r>
                      <a:r>
                        <a:rPr b="0" lang="en-GB" sz="1200" spc="-1" strike="noStrike" u="sng">
                          <a:solidFill>
                            <a:srgbClr val="ccccff"/>
                          </a:solidFill>
                          <a:uFillTx/>
                          <a:latin typeface="Open Sans"/>
                          <a:ea typeface="Open Sans"/>
                          <a:hlinkClick r:id="rId1"/>
                        </a:rPr>
                        <a:t>https://doi.org/10.17037/PUBS.03716765</a:t>
                      </a:r>
                      <a:r>
                        <a:rPr b="0" lang="en-GB" sz="1200" spc="-1" strike="noStrike">
                          <a:solidFill>
                            <a:srgbClr val="1f6057"/>
                          </a:solidFill>
                          <a:latin typeface="Open Sans"/>
                          <a:ea typeface="Open Sans"/>
                        </a:rPr>
                        <a:t> 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Open Sans"/>
                          <a:ea typeface="Open Sans"/>
                        </a:rPr>
                        <a:t>may be used. C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Open Sans"/>
                          <a:ea typeface="Open Sans"/>
                        </a:rPr>
                        <a:t>linical trials should consult the LSHTM Data Management Plan template in appendix 1 of the </a:t>
                      </a:r>
                      <a:r>
                        <a:rPr b="0" lang="en-US" sz="1200" spc="-1" strike="noStrike" u="sng">
                          <a:solidFill>
                            <a:srgbClr val="ccccff"/>
                          </a:solidFill>
                          <a:uFillTx/>
                          <a:latin typeface="Open Sans"/>
                          <a:ea typeface="Open Sans"/>
                          <a:hlinkClick r:id="rId2"/>
                        </a:rPr>
                        <a:t>Data Management for Clinical Trials SOP</a:t>
                      </a:r>
                      <a:r>
                        <a:rPr b="0" lang="en-US" sz="1200" spc="-1" strike="noStrike">
                          <a:solidFill>
                            <a:srgbClr val="1f6057"/>
                          </a:solidFill>
                          <a:latin typeface="Open Sans"/>
                          <a:ea typeface="Open Sans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Open Sans"/>
                          <a:ea typeface="Open Sans"/>
                        </a:rPr>
                        <a:t>(LSHTM SOP 037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206280"/>
                          <a:tab algn="l" pos="412920"/>
                          <a:tab algn="l" pos="619200"/>
                          <a:tab algn="l" pos="825480"/>
                          <a:tab algn="l" pos="1031760"/>
                          <a:tab algn="l" pos="1238400"/>
                          <a:tab algn="l" pos="1444680"/>
                          <a:tab algn="l" pos="1650960"/>
                          <a:tab algn="l" pos="1857240"/>
                          <a:tab algn="l" pos="2063880"/>
                          <a:tab algn="l" pos="2270160"/>
                          <a:tab algn="l" pos="2476440"/>
                          <a:tab algn="l" pos="2682720"/>
                          <a:tab algn="l" pos="2889360"/>
                          <a:tab algn="l" pos="3095640"/>
                          <a:tab algn="l" pos="3301920"/>
                          <a:tab algn="l" pos="3508200"/>
                          <a:tab algn="l" pos="3714840"/>
                          <a:tab algn="l" pos="3921120"/>
                          <a:tab algn="l" pos="4127400"/>
                        </a:tabLst>
                      </a:pPr>
                      <a:r>
                        <a:rPr b="0" lang="en-GB" sz="1200" spc="-1" strike="noStrike">
                          <a:solidFill>
                            <a:srgbClr val="2f8f82"/>
                          </a:solidFill>
                          <a:latin typeface="Open Sans"/>
                          <a:ea typeface="Open Sans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206280"/>
                          <a:tab algn="l" pos="412920"/>
                          <a:tab algn="l" pos="619200"/>
                          <a:tab algn="l" pos="825480"/>
                          <a:tab algn="l" pos="1031760"/>
                          <a:tab algn="l" pos="1238400"/>
                          <a:tab algn="l" pos="1444680"/>
                          <a:tab algn="l" pos="1650960"/>
                          <a:tab algn="l" pos="1857240"/>
                          <a:tab algn="l" pos="2063880"/>
                          <a:tab algn="l" pos="2270160"/>
                          <a:tab algn="l" pos="2476440"/>
                          <a:tab algn="l" pos="2682720"/>
                          <a:tab algn="l" pos="2889360"/>
                          <a:tab algn="l" pos="3095640"/>
                          <a:tab algn="l" pos="3301920"/>
                          <a:tab algn="l" pos="3508200"/>
                          <a:tab algn="l" pos="3714840"/>
                          <a:tab algn="l" pos="3921120"/>
                          <a:tab algn="l" pos="4127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Open Sans"/>
                          <a:ea typeface="Open Sans"/>
                        </a:rPr>
                        <a:t>MPhil/PhD/DrPH students should prepare a Data Management Plan using the template at https://doi.org/10.17037/PUBS.03750331 and include it in their Upgrading or Review report as an appendix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206280"/>
                          <a:tab algn="l" pos="412920"/>
                          <a:tab algn="l" pos="619200"/>
                          <a:tab algn="l" pos="825480"/>
                          <a:tab algn="l" pos="1031760"/>
                          <a:tab algn="l" pos="1238400"/>
                          <a:tab algn="l" pos="1444680"/>
                          <a:tab algn="l" pos="1650960"/>
                          <a:tab algn="l" pos="1857240"/>
                          <a:tab algn="l" pos="2063880"/>
                          <a:tab algn="l" pos="2270160"/>
                          <a:tab algn="l" pos="2476440"/>
                          <a:tab algn="l" pos="2682720"/>
                          <a:tab algn="l" pos="2889360"/>
                          <a:tab algn="l" pos="3095640"/>
                          <a:tab algn="l" pos="3301920"/>
                          <a:tab algn="l" pos="3508200"/>
                          <a:tab algn="l" pos="3714840"/>
                          <a:tab algn="l" pos="3921120"/>
                          <a:tab algn="l" pos="4127400"/>
                        </a:tabLst>
                      </a:pPr>
                      <a:br>
                        <a:rPr sz="1200"/>
                      </a:b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Open Sans"/>
                          <a:ea typeface="Open Sans"/>
                        </a:rPr>
                        <a:t>MSc Students performing research in pursuit of a qualification are not required to write a DMP. However, data management issues must be considered when planning research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206280"/>
                          <a:tab algn="l" pos="412920"/>
                          <a:tab algn="l" pos="619200"/>
                          <a:tab algn="l" pos="825480"/>
                          <a:tab algn="l" pos="1031760"/>
                          <a:tab algn="l" pos="1238400"/>
                          <a:tab algn="l" pos="1444680"/>
                          <a:tab algn="l" pos="1650960"/>
                          <a:tab algn="l" pos="1857240"/>
                          <a:tab algn="l" pos="2063880"/>
                          <a:tab algn="l" pos="2270160"/>
                          <a:tab algn="l" pos="2476440"/>
                          <a:tab algn="l" pos="2682720"/>
                          <a:tab algn="l" pos="2889360"/>
                          <a:tab algn="l" pos="3095640"/>
                          <a:tab algn="l" pos="3301920"/>
                          <a:tab algn="l" pos="3508200"/>
                          <a:tab algn="l" pos="3714840"/>
                          <a:tab algn="l" pos="3921120"/>
                          <a:tab algn="l" pos="4127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206280"/>
                          <a:tab algn="l" pos="412920"/>
                          <a:tab algn="l" pos="619200"/>
                          <a:tab algn="l" pos="825480"/>
                          <a:tab algn="l" pos="1031760"/>
                          <a:tab algn="l" pos="1238400"/>
                          <a:tab algn="l" pos="1444680"/>
                          <a:tab algn="l" pos="1650960"/>
                          <a:tab algn="l" pos="1857240"/>
                          <a:tab algn="l" pos="2063880"/>
                          <a:tab algn="l" pos="2270160"/>
                          <a:tab algn="l" pos="2476440"/>
                          <a:tab algn="l" pos="2682720"/>
                          <a:tab algn="l" pos="2889360"/>
                          <a:tab algn="l" pos="3095640"/>
                          <a:tab algn="l" pos="3301920"/>
                          <a:tab algn="l" pos="3508200"/>
                          <a:tab algn="l" pos="3714840"/>
                          <a:tab algn="l" pos="3921120"/>
                          <a:tab algn="l" pos="4127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Open Sans"/>
                          <a:ea typeface="Open Sans"/>
                        </a:rPr>
                        <a:t>Further information can be found in the </a:t>
                      </a:r>
                      <a:r>
                        <a:rPr b="0" lang="en-GB" sz="1200" spc="-1" strike="noStrike" u="sng">
                          <a:solidFill>
                            <a:srgbClr val="ccccff"/>
                          </a:solidFill>
                          <a:uFillTx/>
                          <a:latin typeface="Open Sans"/>
                          <a:ea typeface="Open Sans"/>
                          <a:hlinkClick r:id="rId3"/>
                        </a:rPr>
                        <a:t>Research Data Management Policy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Open Sans"/>
                          <a:ea typeface="Open Sans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2f8f82"/>
                      </a:solidFill>
                    </a:lnT>
                    <a:lnB w="2880">
                      <a:solidFill>
                        <a:srgbClr val="2f8f8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Text Box 81"/>
          <p:cNvSpPr/>
          <p:nvPr/>
        </p:nvSpPr>
        <p:spPr>
          <a:xfrm>
            <a:off x="0" y="9620280"/>
            <a:ext cx="6873840" cy="285840"/>
          </a:xfrm>
          <a:prstGeom prst="rect">
            <a:avLst/>
          </a:prstGeom>
          <a:solidFill>
            <a:srgbClr val="2f8f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101520" y="9653760"/>
            <a:ext cx="495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Open Sans"/>
                <a:ea typeface="Open Sans"/>
              </a:rPr>
              <a:t>Improving health worldwi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5172120" y="9653760"/>
            <a:ext cx="1582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Open Sans"/>
                <a:ea typeface="Open Sans"/>
              </a:rPr>
              <a:t>www.lshtm.ac.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6"/>
          <p:cNvSpPr/>
          <p:nvPr/>
        </p:nvSpPr>
        <p:spPr>
          <a:xfrm>
            <a:off x="0" y="0"/>
            <a:ext cx="6873840" cy="932040"/>
          </a:xfrm>
          <a:prstGeom prst="rect">
            <a:avLst/>
          </a:prstGeom>
          <a:solidFill>
            <a:srgbClr val="2f8f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26"/>
          <p:cNvSpPr/>
          <p:nvPr/>
        </p:nvSpPr>
        <p:spPr>
          <a:xfrm>
            <a:off x="174600" y="49320"/>
            <a:ext cx="497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Open Sans"/>
                <a:ea typeface="Open Sans"/>
              </a:rPr>
              <a:t>LSHTM support for</a:t>
            </a:r>
            <a:br>
              <a:rPr sz="2000"/>
            </a:br>
            <a:r>
              <a:rPr b="1" lang="en-GB" sz="2000" spc="-1" strike="noStrike">
                <a:solidFill>
                  <a:srgbClr val="ffffff"/>
                </a:solidFill>
                <a:latin typeface="Open Sans"/>
                <a:ea typeface="Open Sans"/>
              </a:rPr>
              <a:t>Data Management Planning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42" descr="lshtm_logo WO.tif"/>
          <p:cNvPicPr/>
          <p:nvPr/>
        </p:nvPicPr>
        <p:blipFill>
          <a:blip r:embed="rId4"/>
          <a:stretch/>
        </p:blipFill>
        <p:spPr>
          <a:xfrm>
            <a:off x="5432400" y="135000"/>
            <a:ext cx="1247760" cy="593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7" name=""/>
          <p:cNvGraphicFramePr/>
          <p:nvPr/>
        </p:nvGraphicFramePr>
        <p:xfrm>
          <a:off x="249120" y="6826320"/>
          <a:ext cx="6448680" cy="2306520"/>
        </p:xfrm>
        <a:graphic>
          <a:graphicData uri="http://schemas.openxmlformats.org/drawingml/2006/table">
            <a:tbl>
              <a:tblPr/>
              <a:tblGrid>
                <a:gridCol w="6448680"/>
              </a:tblGrid>
              <a:tr h="23770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206280"/>
                          <a:tab algn="l" pos="412920"/>
                          <a:tab algn="l" pos="619200"/>
                          <a:tab algn="l" pos="825480"/>
                          <a:tab algn="l" pos="1031760"/>
                          <a:tab algn="l" pos="1238400"/>
                          <a:tab algn="l" pos="1444680"/>
                          <a:tab algn="l" pos="1650960"/>
                          <a:tab algn="l" pos="1857240"/>
                          <a:tab algn="l" pos="2063880"/>
                          <a:tab algn="l" pos="2270160"/>
                          <a:tab algn="l" pos="2476440"/>
                          <a:tab algn="l" pos="2682720"/>
                          <a:tab algn="l" pos="2889360"/>
                          <a:tab algn="l" pos="3095640"/>
                          <a:tab algn="l" pos="3301920"/>
                          <a:tab algn="l" pos="3508200"/>
                          <a:tab algn="l" pos="3714840"/>
                          <a:tab algn="l" pos="3921120"/>
                          <a:tab algn="l" pos="4127400"/>
                        </a:tabLst>
                      </a:pPr>
                      <a:r>
                        <a:rPr b="0" lang="en-GB" sz="1400" spc="-1" strike="noStrike">
                          <a:solidFill>
                            <a:srgbClr val="1f6057"/>
                          </a:solidFill>
                          <a:latin typeface="Open Sans"/>
                          <a:ea typeface="Open Sans"/>
                        </a:rPr>
                        <a:t>LSHTM suppo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206280"/>
                          <a:tab algn="l" pos="412920"/>
                          <a:tab algn="l" pos="619200"/>
                          <a:tab algn="l" pos="825480"/>
                          <a:tab algn="l" pos="1031760"/>
                          <a:tab algn="l" pos="1238400"/>
                          <a:tab algn="l" pos="1444680"/>
                          <a:tab algn="l" pos="1650960"/>
                          <a:tab algn="l" pos="1857240"/>
                          <a:tab algn="l" pos="2063880"/>
                          <a:tab algn="l" pos="2270160"/>
                          <a:tab algn="l" pos="2476440"/>
                          <a:tab algn="l" pos="2682720"/>
                          <a:tab algn="l" pos="2889360"/>
                          <a:tab algn="l" pos="3095640"/>
                          <a:tab algn="l" pos="3301920"/>
                          <a:tab algn="l" pos="3508200"/>
                          <a:tab algn="l" pos="3714840"/>
                          <a:tab algn="l" pos="3921120"/>
                          <a:tab algn="l" pos="4127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Open Sans"/>
                          <a:ea typeface="Open Sans"/>
                        </a:rPr>
                        <a:t>Guidance and worked examples for LSHTM and funder DMPs may be accessed through the </a:t>
                      </a:r>
                      <a:r>
                        <a:rPr b="0" lang="en-GB" sz="1200" spc="-1" strike="noStrike" u="sng">
                          <a:solidFill>
                            <a:srgbClr val="ccccff"/>
                          </a:solidFill>
                          <a:uFillTx/>
                          <a:latin typeface="Open Sans"/>
                          <a:ea typeface="Open Sans"/>
                          <a:hlinkClick r:id="rId5"/>
                        </a:rPr>
                        <a:t>Research Data Management</a:t>
                      </a:r>
                      <a:r>
                        <a:rPr b="0" lang="en-GB" sz="1200" spc="-1" strike="noStrike">
                          <a:solidFill>
                            <a:srgbClr val="1f6057"/>
                          </a:solidFill>
                          <a:latin typeface="Open Sans"/>
                          <a:ea typeface="Open Sans"/>
                        </a:rPr>
                        <a:t> 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Open Sans"/>
                          <a:ea typeface="Open Sans"/>
                        </a:rPr>
                        <a:t>pages on Sharepoint and Servicedesk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206280"/>
                          <a:tab algn="l" pos="412920"/>
                          <a:tab algn="l" pos="619200"/>
                          <a:tab algn="l" pos="825480"/>
                          <a:tab algn="l" pos="1031760"/>
                          <a:tab algn="l" pos="1238400"/>
                          <a:tab algn="l" pos="1444680"/>
                          <a:tab algn="l" pos="1650960"/>
                          <a:tab algn="l" pos="1857240"/>
                          <a:tab algn="l" pos="2063880"/>
                          <a:tab algn="l" pos="2270160"/>
                          <a:tab algn="l" pos="2476440"/>
                          <a:tab algn="l" pos="2682720"/>
                          <a:tab algn="l" pos="2889360"/>
                          <a:tab algn="l" pos="3095640"/>
                          <a:tab algn="l" pos="3301920"/>
                          <a:tab algn="l" pos="3508200"/>
                          <a:tab algn="l" pos="3714840"/>
                          <a:tab algn="l" pos="3921120"/>
                          <a:tab algn="l" pos="4127400"/>
                        </a:tabLst>
                      </a:pPr>
                      <a:br>
                        <a:rPr sz="1200"/>
                      </a:b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Open Sans"/>
                          <a:ea typeface="Open Sans"/>
                        </a:rPr>
                        <a:t>Staff/student training and drop-in sessions are available via the LSHTM Doctoral Transferable Skills and Talent and Education Development (TED) programm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206280"/>
                          <a:tab algn="l" pos="412920"/>
                          <a:tab algn="l" pos="619200"/>
                          <a:tab algn="l" pos="825480"/>
                          <a:tab algn="l" pos="1031760"/>
                          <a:tab algn="l" pos="1238400"/>
                          <a:tab algn="l" pos="1444680"/>
                          <a:tab algn="l" pos="1650960"/>
                          <a:tab algn="l" pos="1857240"/>
                          <a:tab algn="l" pos="2063880"/>
                          <a:tab algn="l" pos="2270160"/>
                          <a:tab algn="l" pos="2476440"/>
                          <a:tab algn="l" pos="2682720"/>
                          <a:tab algn="l" pos="2889360"/>
                          <a:tab algn="l" pos="3095640"/>
                          <a:tab algn="l" pos="3301920"/>
                          <a:tab algn="l" pos="3508200"/>
                          <a:tab algn="l" pos="3714840"/>
                          <a:tab algn="l" pos="3921120"/>
                          <a:tab algn="l" pos="4127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206280"/>
                          <a:tab algn="l" pos="412920"/>
                          <a:tab algn="l" pos="619200"/>
                          <a:tab algn="l" pos="825480"/>
                          <a:tab algn="l" pos="1031760"/>
                          <a:tab algn="l" pos="1238400"/>
                          <a:tab algn="l" pos="1444680"/>
                          <a:tab algn="l" pos="1650960"/>
                          <a:tab algn="l" pos="1857240"/>
                          <a:tab algn="l" pos="2063880"/>
                          <a:tab algn="l" pos="2270160"/>
                          <a:tab algn="l" pos="2476440"/>
                          <a:tab algn="l" pos="2682720"/>
                          <a:tab algn="l" pos="2889360"/>
                          <a:tab algn="l" pos="3095640"/>
                          <a:tab algn="l" pos="3301920"/>
                          <a:tab algn="l" pos="3508200"/>
                          <a:tab algn="l" pos="3714840"/>
                          <a:tab algn="l" pos="3921120"/>
                          <a:tab algn="l" pos="4127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Open Sans"/>
                          <a:ea typeface="Open Sans"/>
                        </a:rPr>
                        <a:t>To obtain advice on data management within your project and/or obtain feedback on a draft data management plan, contact the Research Data Manager via </a:t>
                      </a:r>
                      <a:r>
                        <a:rPr b="0" lang="en-GB" sz="1200" spc="-1" strike="noStrike" u="sng">
                          <a:solidFill>
                            <a:srgbClr val="ccccff"/>
                          </a:solidFill>
                          <a:uFillTx/>
                          <a:latin typeface="Open Sans"/>
                          <a:ea typeface="Open Sans"/>
                          <a:hlinkClick r:id="rId6"/>
                        </a:rPr>
                        <a:t>Servicedesk</a:t>
                      </a:r>
                      <a:r>
                        <a:rPr b="0" lang="en-GB" sz="1200" spc="-1" strike="noStrike">
                          <a:solidFill>
                            <a:srgbClr val="1f6057"/>
                          </a:solidFill>
                          <a:latin typeface="Open Sans"/>
                          <a:ea typeface="Open Sans"/>
                        </a:rPr>
                        <a:t> 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Open Sans"/>
                          <a:ea typeface="Open Sans"/>
                        </a:rPr>
                        <a:t>or emailing researchdatamanagement@lshtm.ac.uk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2f8f82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" name="TextBox 11"/>
          <p:cNvSpPr/>
          <p:nvPr/>
        </p:nvSpPr>
        <p:spPr>
          <a:xfrm>
            <a:off x="3436920" y="9433080"/>
            <a:ext cx="329724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Open Sans"/>
                <a:ea typeface="Open Sans"/>
              </a:rPr>
              <a:t>https://doi.org/10.17037/DATA.50. Reviewed: 11 August 20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09T12:19:10Z</dcterms:created>
  <dc:creator>Anne Koerber</dc:creator>
  <dc:description/>
  <dc:language>en-US</dc:language>
  <cp:lastModifiedBy>Gareth Knight</cp:lastModifiedBy>
  <cp:lastPrinted>2017-07-04T16:37:17Z</cp:lastPrinted>
  <dcterms:modified xsi:type="dcterms:W3CDTF">2025-09-01T15:05:04Z</dcterms:modified>
  <cp:revision>605</cp:revision>
  <dc:subject/>
  <dc:title>PowerPoint Presentation</dc:title>
</cp:coreProperties>
</file>