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09600" y="744120"/>
            <a:ext cx="25779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74"/>
              </a:spcBef>
              <a:buNone/>
              <a:tabLst>
                <a:tab algn="l" pos="0"/>
                <a:tab algn="l" pos="104760"/>
                <a:tab algn="l" pos="209520"/>
                <a:tab algn="l" pos="314280"/>
                <a:tab algn="l" pos="419040"/>
                <a:tab algn="l" pos="523800"/>
                <a:tab algn="l" pos="628560"/>
                <a:tab algn="l" pos="733320"/>
                <a:tab algn="l" pos="838080"/>
                <a:tab algn="l" pos="942840"/>
                <a:tab algn="l" pos="1047600"/>
                <a:tab algn="l" pos="1152360"/>
                <a:tab algn="l" pos="1257480"/>
                <a:tab algn="l" pos="1362240"/>
                <a:tab algn="l" pos="1467000"/>
                <a:tab algn="l" pos="1571760"/>
                <a:tab algn="l" pos="1676520"/>
                <a:tab algn="l" pos="1781280"/>
                <a:tab algn="l" pos="1886040"/>
                <a:tab algn="l" pos="1990800"/>
                <a:tab algn="l" pos="209556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30FF-2BC8-4382-A662-A67AB0EAE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2109960" y="744480"/>
            <a:ext cx="2577960" cy="372276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4"/>
              </a:spcBef>
              <a:buNone/>
              <a:tabLst>
                <a:tab algn="l" pos="0"/>
                <a:tab algn="l" pos="104760"/>
                <a:tab algn="l" pos="209520"/>
                <a:tab algn="l" pos="314280"/>
                <a:tab algn="l" pos="419040"/>
                <a:tab algn="l" pos="523800"/>
                <a:tab algn="l" pos="628560"/>
                <a:tab algn="l" pos="733320"/>
                <a:tab algn="l" pos="838080"/>
                <a:tab algn="l" pos="942840"/>
                <a:tab algn="l" pos="1047600"/>
                <a:tab algn="l" pos="1152360"/>
                <a:tab algn="l" pos="1257480"/>
                <a:tab algn="l" pos="1362240"/>
                <a:tab algn="l" pos="1467000"/>
                <a:tab algn="l" pos="1571760"/>
                <a:tab algn="l" pos="1676520"/>
                <a:tab algn="l" pos="1781280"/>
                <a:tab algn="l" pos="1886040"/>
                <a:tab algn="l" pos="1990800"/>
                <a:tab algn="l" pos="209556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A6EC-2D49-49FB-916F-C9C49F1B8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E3DD-40D2-4A19-9B4E-FD7FC147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CE38-5E3A-4F6D-8D63-62181977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841B-949C-4B40-80D6-4B81CA303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98EC-CA70-41C1-B065-A8323E5F6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113A-15A6-4896-AE57-129DA154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48AC-5BDB-4DE7-A45D-419B991B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408D-2A5F-48DA-9C32-09434757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09DE-0C39-46B1-BEF4-C0028BCE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9120"/>
            <a:ext cx="5829120" cy="76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CBC5-874F-46B8-BA23-1EAC3FBB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AC8F-8DD7-4919-8D93-47C19932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981F-D8D5-497D-A5BD-FDB5C44B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2DAF-A2E6-443C-A55C-D6D5C0D8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6000"/>
          </a:bodyPr>
          <a:p>
            <a:pPr marL="327240" indent="-3272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714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332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1800" indent="-21852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704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704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704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664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664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664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A773-2A66-4EC2-9C0A-8B2DAA0FC3D5}" type="slidenum"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lshtm.ac.uk/sites/default/files/research_data_management_policy.pd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s://lshtm.sharepoint.com/sites/intranet-library-archive-and-open-research-services/SitePages/Research-Data-Management.aspx" TargetMode="External"/><Relationship Id="rId4" Type="http://schemas.openxmlformats.org/officeDocument/2006/relationships/hyperlink" Target="https://lshtm.sharepoint.com/sites/intranet-research-governance-and-integrity/SitePages/Standard-Operating-Procedures-(SOPs).aspx" TargetMode="External"/><Relationship Id="rId5" Type="http://schemas.openxmlformats.org/officeDocument/2006/relationships/hyperlink" Target="https://doi.org/10.17037/PUBS.03716765" TargetMode="External"/><Relationship Id="rId6" Type="http://schemas.openxmlformats.org/officeDocument/2006/relationships/hyperlink" Target="https://lshtm.topdesk.net/tas/public/ssp/content/detail/service?unid=2faf1cff0982450693be797b3fefa950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-8280360" y="3084480"/>
            <a:ext cx="18396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77920" y="1036800"/>
            <a:ext cx="6294240" cy="30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en Sans"/>
                <a:ea typeface="Open Sans"/>
              </a:rPr>
              <a:t>A Data Management Plan (DMP) is a written document that outlines how research assets will be acquired, managed and shared during a research study and following its comple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f6057"/>
                </a:solidFill>
                <a:latin typeface="Open Sans"/>
                <a:ea typeface="Open Sans"/>
              </a:rPr>
              <a:t>Expect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Open Sans"/>
                <a:ea typeface="Open Sans"/>
              </a:rPr>
              <a:t>LSHTM-led research projects working with research data should prepare a Data Management Plan (DMP) before commencement of research, even if not required by their research funder. </a:t>
            </a:r>
            <a:r>
              <a:rPr b="0" lang="en-GB" sz="1200" spc="-1" strike="noStrike">
                <a:solidFill>
                  <a:srgbClr val="000000"/>
                </a:solidFill>
                <a:latin typeface="Open Sans"/>
                <a:ea typeface="Open Sans"/>
              </a:rPr>
              <a:t>Further information is available in the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Open Sans"/>
                <a:ea typeface="Open Sans"/>
                <a:hlinkClick r:id="rId1"/>
              </a:rPr>
              <a:t>LSHTM Research Data Management Policy</a:t>
            </a:r>
            <a:r>
              <a:rPr b="0" lang="en-GB" sz="1200" spc="-1" strike="noStrike">
                <a:solidFill>
                  <a:srgbClr val="000000"/>
                </a:solidFill>
                <a:latin typeface="Open Sans"/>
                <a:ea typeface="Open San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Open Sans"/>
                <a:ea typeface="Open Sans"/>
              </a:rPr>
              <a:t>Many research funders require a data management plan to be submitted as part of a research bid. This includes UKRI funders (ESRC, MRC, EPSRC), Wellcome Trust and Gates Foundation. Other funders, such as the European Commission, indicate a full DMP must be produced as a deliverable within 6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1"/>
          <p:cNvSpPr/>
          <p:nvPr/>
        </p:nvSpPr>
        <p:spPr>
          <a:xfrm>
            <a:off x="0" y="9620280"/>
            <a:ext cx="6873840" cy="285840"/>
          </a:xfrm>
          <a:prstGeom prst="rect">
            <a:avLst/>
          </a:prstGeom>
          <a:solidFill>
            <a:srgbClr val="2f8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101520" y="9653760"/>
            <a:ext cx="495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Improving health worldw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5172120" y="9653760"/>
            <a:ext cx="15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www.lshtm.ac.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0"/>
            <a:ext cx="6873840" cy="932040"/>
          </a:xfrm>
          <a:prstGeom prst="rect">
            <a:avLst/>
          </a:prstGeom>
          <a:solidFill>
            <a:srgbClr val="2f8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6"/>
          <p:cNvSpPr/>
          <p:nvPr/>
        </p:nvSpPr>
        <p:spPr>
          <a:xfrm>
            <a:off x="247680" y="49320"/>
            <a:ext cx="49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Preparing a Data Management Plan for research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42" descr="lshtm_logo WO.tif"/>
          <p:cNvPicPr/>
          <p:nvPr/>
        </p:nvPicPr>
        <p:blipFill>
          <a:blip r:embed="rId2"/>
          <a:stretch/>
        </p:blipFill>
        <p:spPr>
          <a:xfrm>
            <a:off x="5432400" y="135000"/>
            <a:ext cx="124776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298440" y="5846760"/>
          <a:ext cx="6426360" cy="750960"/>
        </p:xfrm>
        <a:graphic>
          <a:graphicData uri="http://schemas.openxmlformats.org/drawingml/2006/table">
            <a:tbl>
              <a:tblPr/>
              <a:tblGrid>
                <a:gridCol w="6426360"/>
              </a:tblGrid>
              <a:tr h="750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Box 11"/>
          <p:cNvSpPr/>
          <p:nvPr/>
        </p:nvSpPr>
        <p:spPr>
          <a:xfrm>
            <a:off x="3436920" y="9433080"/>
            <a:ext cx="3297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Open Sans"/>
                <a:ea typeface="Open Sans"/>
              </a:rPr>
              <a:t>https://doi.org/10.17037/DATA.50. Reviewed: 1 September 20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12840" y="5326200"/>
          <a:ext cx="6280200" cy="3916080"/>
        </p:xfrm>
        <a:graphic>
          <a:graphicData uri="http://schemas.openxmlformats.org/drawingml/2006/table">
            <a:tbl>
              <a:tblPr/>
              <a:tblGrid>
                <a:gridCol w="6280200"/>
              </a:tblGrid>
              <a:tr h="4044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4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LSHTM guid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Guidance and worked examples for funder-specific DMPs may be accessed through the </a:t>
                      </a:r>
                      <a:r>
                        <a:rPr b="0" lang="en-GB" sz="1200" spc="-1" strike="noStrike" u="sng">
                          <a:solidFill>
                            <a:srgbClr val="ccccff"/>
                          </a:solidFill>
                          <a:uFillTx/>
                          <a:latin typeface="Open Sans"/>
                          <a:ea typeface="Open Sans"/>
                          <a:hlinkClick r:id="rId3"/>
                        </a:rPr>
                        <a:t>Research Data Management</a:t>
                      </a:r>
                      <a:r>
                        <a:rPr b="0" lang="en-GB" sz="12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pages on Sharepoint and Servicedesk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Researchers performing clinical trials should consult the LSHTM Data Management Plan template in appendix 1 of the</a:t>
                      </a:r>
                      <a:r>
                        <a:rPr b="0" lang="en-US" sz="12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 </a:t>
                      </a:r>
                      <a:r>
                        <a:rPr b="0" lang="en-US" sz="1200" spc="-1" strike="noStrike" u="sng">
                          <a:solidFill>
                            <a:srgbClr val="ccccff"/>
                          </a:solidFill>
                          <a:uFillTx/>
                          <a:latin typeface="Open Sans"/>
                          <a:ea typeface="Open Sans"/>
                          <a:hlinkClick r:id="rId4"/>
                        </a:rPr>
                        <a:t>Data Management for Clinical Trials SOP</a:t>
                      </a:r>
                      <a:r>
                        <a:rPr b="0" lang="en-US" sz="12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(LSHTM SOP 037). Sample text from the generic </a:t>
                      </a:r>
                      <a:r>
                        <a:rPr b="0" lang="en-US" sz="1200" spc="-1" strike="noStrike" u="sng">
                          <a:solidFill>
                            <a:srgbClr val="ccccff"/>
                          </a:solidFill>
                          <a:uFillTx/>
                          <a:latin typeface="Open Sans"/>
                          <a:ea typeface="Open Sans"/>
                          <a:hlinkClick r:id="rId5"/>
                        </a:rPr>
                        <a:t>LSHTM DMP template</a:t>
                      </a:r>
                      <a:r>
                        <a:rPr b="0" lang="en-US" sz="12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may also be incorporat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4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Training events for staff and students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Staff/student training training and drop-in sessions are available via the Doctoral Transferable Skills and Talent and Education Development (TED) programm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4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Book an appoin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For advice on data management in your research and feedback on a draft data management plan, contact the Research Data Manager via </a:t>
                      </a:r>
                      <a:r>
                        <a:rPr b="0" lang="en-GB" sz="1200" spc="-1" strike="noStrike" u="sng">
                          <a:solidFill>
                            <a:srgbClr val="ccccff"/>
                          </a:solidFill>
                          <a:uFillTx/>
                          <a:latin typeface="Open Sans"/>
                          <a:ea typeface="Open Sans"/>
                          <a:hlinkClick r:id="rId6"/>
                        </a:rPr>
                        <a:t>Servicedesk</a:t>
                      </a:r>
                      <a:r>
                        <a:rPr b="0" lang="en-GB" sz="12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or by emailing researchdatamanagement@lshtm.ac.uk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f8f82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12840" y="4200480"/>
          <a:ext cx="6294240" cy="933480"/>
        </p:xfrm>
        <a:graphic>
          <a:graphicData uri="http://schemas.openxmlformats.org/drawingml/2006/table">
            <a:tbl>
              <a:tblPr/>
              <a:tblGrid>
                <a:gridCol w="6294240"/>
              </a:tblGrid>
              <a:tr h="933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4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DMPOn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The DMPOnline (https://dmponline.dcc.ac.uk/) platform offers DMP templates for all major UK and EU funding bodies, with supplementary guidance written by the research community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f8f82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9T12:19:10Z</dcterms:created>
  <dc:creator>Anne Koerber</dc:creator>
  <dc:description/>
  <dc:language>en-US</dc:language>
  <cp:lastModifiedBy>Gareth Knight</cp:lastModifiedBy>
  <cp:lastPrinted>2017-07-05T09:32:50Z</cp:lastPrinted>
  <dcterms:modified xsi:type="dcterms:W3CDTF">2025-09-01T15:02:10Z</dcterms:modified>
  <cp:revision>623</cp:revision>
  <dc:subject/>
  <dc:title>PowerPoint Presentation</dc:title>
</cp:coreProperties>
</file>