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0E44-34DB-4986-84C7-A4C9906F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06E-C252-4FD7-AF55-474CCF5C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37D-9E00-485D-BC5A-80C85065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B5E-F8BA-4184-A93A-E091A5B3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217-3E8F-4ECE-B74E-98D36014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3D3-EB5C-4371-B1C0-6977EAE1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A3D-FB0F-47A6-9451-28D3C6BF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192-B164-40F7-B763-C44BA9A8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C3D-E950-4629-9561-D29B0EF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0E5-B4D8-4573-AE3D-B42673F2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51F-4A3C-471A-834E-6F3E210A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3A2-3C92-4E49-B266-37E3FAA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B53-D1F7-470F-9D20-138FFC07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3CB-295F-4E8A-8CAB-74C90DD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554-073D-4D98-A446-B7DFC4971909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174600" y="1101600"/>
            <a:ext cx="65232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Research files should be organized and labelled in a consistent, meaningful manner to enable information to be quickly loc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During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onsider key information to record and the order in should be presented to organize resources into logical groups. Identify disciplinary conventions that may be relev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Trial the convention with suitable resources to determine if it is fit for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Document the convention in a research protocol or similar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During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Ensure study members are aware of the convention and able to apply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Monitor take-up of the convention and perform remedial action where appropriate. Remind study members of the need to be consistent in their appro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onsider limitations of the current approach. Does it remain fit for purp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6057"/>
                </a:solidFill>
                <a:latin typeface="Open Sans"/>
                <a:ea typeface="Open Sans"/>
              </a:rPr>
              <a:t>On completion of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Consider if the convention is still fit for purpose. Are changes needed to enable use by a different audi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174600" y="23220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Organise and label research files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2" descr="lshtm_logo WO.tif"/>
          <p:cNvPicPr/>
          <p:nvPr/>
        </p:nvPicPr>
        <p:blipFill>
          <a:blip r:embed="rId1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498760" y="9367920"/>
            <a:ext cx="419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 Reviewed: 1 September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2120" y="5635800"/>
          <a:ext cx="6458040" cy="193824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19382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How to Label resources clearly and consistent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Apply a consistent format when naming folders, files, variables, or other items. Consider key information to record, such as participate ID, capture date, topic,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rder information in a way that groups similar items together. E.g., participant 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Use clear separators to make labels easy to read. E.g., underscores/hyphens to separate parts and consistent use of capitalization (e.g., all lowercase or CamelCas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6000" y="8589960"/>
          <a:ext cx="6411960" cy="73512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74916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advice on data management practices that apply to your research study, contact the LSHTM Research Data Manager at researchdatamanagement@lshtm.ac.u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30040" y="7564320"/>
          <a:ext cx="6411960" cy="103500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10350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ance on data organisation are available on LSHTM’s </a:t>
                      </a: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search Data Management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gular training is available through LSHTM Doctoral Transferable Skills and Talent and Education Development (TED) programm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3T10:17:35Z</cp:lastPrinted>
  <dcterms:modified xsi:type="dcterms:W3CDTF">2025-09-01T15:00:58Z</dcterms:modified>
  <cp:revision>609</cp:revision>
  <dc:subject/>
  <dc:title>PowerPoint Presentation</dc:title>
</cp:coreProperties>
</file>