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09600" y="744120"/>
            <a:ext cx="2577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AC1F-9737-4C65-B961-3D2A9635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09960" y="744480"/>
            <a:ext cx="257796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04760"/>
                <a:tab algn="l" pos="209520"/>
                <a:tab algn="l" pos="314280"/>
                <a:tab algn="l" pos="419040"/>
                <a:tab algn="l" pos="523800"/>
                <a:tab algn="l" pos="628560"/>
                <a:tab algn="l" pos="733320"/>
                <a:tab algn="l" pos="838080"/>
                <a:tab algn="l" pos="942840"/>
                <a:tab algn="l" pos="1047600"/>
                <a:tab algn="l" pos="1152360"/>
                <a:tab algn="l" pos="1257480"/>
                <a:tab algn="l" pos="1362240"/>
                <a:tab algn="l" pos="1467000"/>
                <a:tab algn="l" pos="1571760"/>
                <a:tab algn="l" pos="1676520"/>
                <a:tab algn="l" pos="1781280"/>
                <a:tab algn="l" pos="1886040"/>
                <a:tab algn="l" pos="1990800"/>
                <a:tab algn="l" pos="209556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B969-7DAB-404B-BFD7-D86A6627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DA5-4300-4F58-B365-5A5C64FE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1E7-3223-4BFA-8BFD-49A8668D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12A-C47E-482F-9E2D-976E52CB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7000"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35C-4AEF-4D0E-B191-ABA8102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001-7782-49E4-8C5A-F77AA7A3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01C-73AB-4E20-A4CA-FBBDA9A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32-219E-4932-8D69-60F45001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EB1-5DCF-485D-9B54-DE0FABB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120"/>
            <a:ext cx="5829120" cy="76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E2F-059B-41CC-9493-DDAE265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9FC-0CC1-4317-8530-0455434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421-01B3-4B26-A4FD-EC8105C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ECB-E806-4995-8983-CBC9E27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6527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86000"/>
          </a:bodyPr>
          <a:p>
            <a:pPr marL="327240" indent="-327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71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32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1800" indent="-218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7040" indent="-218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6A1-5646-4EC5-B507-DD4C63D4F594}" type="slidenum"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lshtm.sharepoint.com/sites/intranet-library-archive-and-open-research-services/SitePages/Research-Data-Management.aspx" TargetMode="External"/><Relationship Id="rId3" Type="http://schemas.openxmlformats.org/officeDocument/2006/relationships/hyperlink" Target="https://lshtm.topdesk.net/tas/public/ssp/content/detail/service?unid=2faf1cff0982450693be797b3fefa950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-8280360" y="3084480"/>
            <a:ext cx="1839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4600" y="1031760"/>
            <a:ext cx="65232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Open Sans"/>
              </a:rPr>
              <a:t>Research data management is an integral part of good research practice that protects the intellectual and financial investment made its creation and ensures research findings can be validated and reproduced.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4600" y="1882800"/>
          <a:ext cx="6523200" cy="2424240"/>
        </p:xfrm>
        <a:graphic>
          <a:graphicData uri="http://schemas.openxmlformats.org/drawingml/2006/table">
            <a:tbl>
              <a:tblPr/>
              <a:tblGrid>
                <a:gridCol w="6523200"/>
              </a:tblGrid>
              <a:tr h="2426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What resources should be manag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All resources produced and used during research requires management​, irrespective of who collected them, how they were obtained, and the form they take. These i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alitative material such as audio recordings and tran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antitative data held in spreadsheets, databases and other structured 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Models for simulations and experi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Questionnaires, interview guides and other research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ield notes produced during ethnographic 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de such as source code, processing scripts, executable tools and similar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riority should be given to resources needed to validate and reproduce your resear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81"/>
          <p:cNvSpPr/>
          <p:nvPr/>
        </p:nvSpPr>
        <p:spPr>
          <a:xfrm>
            <a:off x="0" y="9620280"/>
            <a:ext cx="6873840" cy="2858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1520" y="9653760"/>
            <a:ext cx="495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Improving health world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172120" y="96537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ww.lshtm.ac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6873840" cy="932040"/>
          </a:xfrm>
          <a:prstGeom prst="rect">
            <a:avLst/>
          </a:prstGeom>
          <a:solidFill>
            <a:srgbClr val="2f8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4600" y="493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Research Data Management: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Open Sans"/>
                <a:ea typeface="Open Sans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2" descr="lshtm_logo WO.tif"/>
          <p:cNvPicPr/>
          <p:nvPr/>
        </p:nvPicPr>
        <p:blipFill>
          <a:blip r:embed="rId1"/>
          <a:stretch/>
        </p:blipFill>
        <p:spPr>
          <a:xfrm>
            <a:off x="5432400" y="135000"/>
            <a:ext cx="12477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74600" y="4408560"/>
          <a:ext cx="6523200" cy="3422520"/>
        </p:xfrm>
        <a:graphic>
          <a:graphicData uri="http://schemas.openxmlformats.org/drawingml/2006/table">
            <a:tbl>
              <a:tblPr/>
              <a:tblGrid>
                <a:gridCol w="6523200"/>
              </a:tblGrid>
              <a:tr h="342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Why plan data managem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Data management planning benefits your research in several way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nsure quality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can collect and process data suitable for your research need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Save tim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will have a better understanding of the tasks that must be performed, requirements to be met, and how much time they will re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Manage risk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you can recognise potential problems and take steps to avoid or reduce the likelihood that they will occ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Research can be verifi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Others will have greater confidence in your research if the data on which it is built can be checked and confirm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680" indent="-171360" algn="just">
                        <a:lnSpc>
                          <a:spcPct val="120000"/>
                        </a:lnSpc>
                        <a:buClr>
                          <a:srgbClr val="1f6057"/>
                        </a:buClr>
                        <a:buFont typeface="Arial"/>
                        <a:buChar char="•"/>
                        <a:tabLst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  <a:tab algn="l" pos="4334040"/>
                        </a:tabLst>
                      </a:pP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Ethical and legal complianc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udy participants, collaborators, sponsors, funders and other needs can be recognised in advance and addressed according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ailure to consider data management issues may result in unexpected problems; you may be unable to fulfil your research objectives or may require more time, funds, or other resources than expected.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1"/>
          <p:cNvSpPr/>
          <p:nvPr/>
        </p:nvSpPr>
        <p:spPr>
          <a:xfrm>
            <a:off x="3324240" y="9435960"/>
            <a:ext cx="32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Open Sans"/>
                <a:ea typeface="Open Sans"/>
              </a:rPr>
              <a:t>https://doi.org/10.17037/DATA.50. Reviewed: September 1, 2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4600" y="7834320"/>
          <a:ext cx="6499080" cy="1522440"/>
        </p:xfrm>
        <a:graphic>
          <a:graphicData uri="http://schemas.openxmlformats.org/drawingml/2006/table">
            <a:tbl>
              <a:tblPr/>
              <a:tblGrid>
                <a:gridCol w="6499080"/>
              </a:tblGrid>
              <a:tr h="15224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4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LSHTM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Guides are available on LSHTM’s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2"/>
                        </a:rPr>
                        <a:t>Research Data Management</a:t>
                      </a:r>
                      <a:r>
                        <a:rPr b="0" lang="en-GB" sz="1200" spc="-1" strike="noStrike">
                          <a:solidFill>
                            <a:srgbClr val="1f6057"/>
                          </a:solidFill>
                          <a:latin typeface="Open Sans"/>
                          <a:ea typeface="Open Sans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harepoint pag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Staff/student training are available via the LSHTM Doctoral Transferable Skills and Talent and Education Development (TED) program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06280"/>
                          <a:tab algn="l" pos="412920"/>
                          <a:tab algn="l" pos="619200"/>
                          <a:tab algn="l" pos="825480"/>
                          <a:tab algn="l" pos="1031760"/>
                          <a:tab algn="l" pos="1238400"/>
                          <a:tab algn="l" pos="1444680"/>
                          <a:tab algn="l" pos="1650960"/>
                          <a:tab algn="l" pos="1857240"/>
                          <a:tab algn="l" pos="2063880"/>
                          <a:tab algn="l" pos="2270160"/>
                          <a:tab algn="l" pos="2476440"/>
                          <a:tab algn="l" pos="2682720"/>
                          <a:tab algn="l" pos="2889360"/>
                          <a:tab algn="l" pos="3095640"/>
                          <a:tab algn="l" pos="3301920"/>
                          <a:tab algn="l" pos="3508200"/>
                          <a:tab algn="l" pos="3714840"/>
                          <a:tab algn="l" pos="3921120"/>
                          <a:tab algn="l" pos="4127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For one-to-one support, contact the LSHTM Research Data Manager via </a:t>
                      </a: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Open Sans"/>
                          <a:ea typeface="Open Sans"/>
                          <a:hlinkClick r:id="rId3"/>
                        </a:rPr>
                        <a:t>Servicedesk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 or researchdatamanagement@lshtm.ac.u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f8f82"/>
                      </a:solidFill>
                    </a:lnT>
                    <a:lnB w="2880">
                      <a:solidFill>
                        <a:srgbClr val="2f8f8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2:19:10Z</dcterms:created>
  <dc:creator>Anne Koerber</dc:creator>
  <dc:description/>
  <dc:language>en-US</dc:language>
  <cp:lastModifiedBy>Gareth Knight</cp:lastModifiedBy>
  <cp:lastPrinted>2017-07-03T10:17:35Z</cp:lastPrinted>
  <dcterms:modified xsi:type="dcterms:W3CDTF">2025-09-01T14:59:46Z</dcterms:modified>
  <cp:revision>595</cp:revision>
  <dc:subject/>
  <dc:title>PowerPoint Presentation</dc:title>
</cp:coreProperties>
</file>