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D0F8-A626-4091-9538-577B2342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218-3667-434D-B6AE-1EEA23DF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480-963C-4549-AD5A-2B0A5DA4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393-E154-4531-88A7-5E76D0D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FE2-F641-4E2C-9964-16F6EE51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AB9-03A2-4563-A11D-1FD9C8A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410-EF72-4BE4-9AFF-84DFA430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C57-8458-4FE3-B66B-3BEC2B4A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D9E-AD36-41E6-BA48-EFCDA270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4B4-2BF2-4318-BDA7-B613F24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637-C939-49EE-B9C6-500AA786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946-7F47-4922-B429-2EE0F9C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91D-FDB4-49D9-B81B-9722E298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B62-3A36-4BD3-AE18-66DC9AF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83FA-332D-4201-8E9B-5201B81AD2F6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19160"/>
            <a:ext cx="644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To ensure research data can be shared with other researchers, resources must be allocated to fulfil requirements and address barriers at the start of a project. This will ensure a measured approach can be adopted that protects study participants and maximises research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181080" y="23220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Preparing research data for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69920" y="4087800"/>
          <a:ext cx="6450120" cy="3406680"/>
        </p:xfrm>
        <a:graphic>
          <a:graphicData uri="http://schemas.openxmlformats.org/drawingml/2006/table">
            <a:tbl>
              <a:tblPr/>
              <a:tblGrid>
                <a:gridCol w="3225600"/>
                <a:gridCol w="3224520"/>
              </a:tblGrid>
              <a:tr h="340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asons to make data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hanced impact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ain credit for all research outputs, not just pap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More citations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udies suggest publication with accompanying data receive more citations (Piwowar &amp; Vision, 20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producibility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is easier to verify, increasing confidence in its val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able new research: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can be used for new and innovative research, which in turn increases your citation rate and repu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quitable research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reater openness ensures research can be accessed and used by researchers working in Low-, Middle- and High-income coun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asons to withhol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Participant consent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nsent did not address sharing requirements, due to study a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Third party IPR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provider or other party will not provide permission to sh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Commercial use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 will be used as a basis for a patent application or contains commercially confident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Anonymisation issues</a:t>
                      </a:r>
                      <a:r>
                        <a:rPr b="0" lang="en-GB" sz="1100" spc="-1" strike="noStrike">
                          <a:solidFill>
                            <a:srgbClr val="2f8f82"/>
                          </a:solidFill>
                          <a:latin typeface="Open Sans"/>
                          <a:ea typeface="Open Sans"/>
                        </a:rPr>
                        <a:t>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Information cannot be removed without loss of cont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Wingdings" charset="2"/>
                        <a:buChar char="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1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Potential harm: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search participants or others may suffer repercussions if information were made publi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1360" y="2127240"/>
          <a:ext cx="6450120" cy="1941480"/>
        </p:xfrm>
        <a:graphic>
          <a:graphicData uri="http://schemas.openxmlformats.org/drawingml/2006/table">
            <a:tbl>
              <a:tblPr/>
              <a:tblGrid>
                <a:gridCol w="6450120"/>
              </a:tblGrid>
              <a:tr h="1952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Factors to consider when planning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y are the resources being shar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at resources will be made available? Data, code, collection tool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at actions need to be performed to enable sharing? E.g. obtain participant consent, develop a licence agreements, investigate access contro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en will the resources be made available? At the same time as a journal paper, on project completion, 1 year after project completion, or some other perio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Where will they be hosted? E.g. a specific digital repositor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560760" y="938844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1 September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920" y="8466120"/>
          <a:ext cx="6411960" cy="82728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8272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Book an appoin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advice on data management and sharing costs that apply to your research study, contact the LSHTM Research Data Manager at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9920" y="7475400"/>
          <a:ext cx="6411960" cy="99540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9954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sharing guidance is available on LSHTM’s 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Data Managemen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ag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Regular training for staff and students are delivered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4T16:53:55Z</cp:lastPrinted>
  <dcterms:modified xsi:type="dcterms:W3CDTF">2025-09-01T14:58:00Z</dcterms:modified>
  <cp:revision>618</cp:revision>
  <dc:subject/>
  <dc:title>PowerPoint Presentation</dc:title>
</cp:coreProperties>
</file>