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A229-5C03-4360-81FD-162492DA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6482-A4CC-4DFE-8F96-56443B5E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ED7-1997-4CFB-B5CA-DC9E5173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721-29F0-4E0F-836C-E4C1E68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834-55A7-4831-A73D-ED287063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B02-1BDB-457B-AEC5-2759DA30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D09-3CEB-46D2-8C20-FD2959C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2DC-AEC4-4798-8EB3-9A75DFDF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7B8-05A1-4739-BAF6-3E6917D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E1E-4CAB-46E8-B626-0A94AE82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2BB-BAEC-40CD-8D62-4F39C05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1C5-60A1-4805-AFC7-AC653E0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75D-2ECD-4018-B0F5-862D441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AE3-9649-44D2-AD74-DFAFA20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5C0-93FD-434B-AFF7-91D7D48A7BF9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lshtm.ac.uk/sites/default/files/research_data_management_policy.pd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s://lshtm.sharepoint.com/sites/intranet-library-archive-and-open-research-services/SitePages/Research-Data-Management.aspx" TargetMode="External"/><Relationship Id="rId4" Type="http://schemas.openxmlformats.org/officeDocument/2006/relationships/hyperlink" Target="https://lshtm.sharepoint.com/sites/intranet-research-governance-and-integrity/SitePages/Standard-Operating-Procedures-(SOPs).aspx" TargetMode="External"/><Relationship Id="rId5" Type="http://schemas.openxmlformats.org/officeDocument/2006/relationships/hyperlink" Target="https://doi.org/10.17037/PUBS.03716765" TargetMode="External"/><Relationship Id="rId6" Type="http://schemas.openxmlformats.org/officeDocument/2006/relationships/hyperlink" Target="https://lshtm.topdesk.net/tas/public/ssp/content/detail/service?unid=2faf1cff0982450693be797b3fefa950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7920" y="1036800"/>
            <a:ext cx="629424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A Data Management Plan (DMP) is a written document that outlines how research assets will be acquired, managed and shared during a research study and following its comple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Expec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LSHTM-led research projects working with research data should prepare a Data Management Plan (DMP) before commencement of research, even if not required by their research funder. </a:t>
            </a:r>
            <a:r>
              <a:rPr b="0" lang="en-GB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Further information is available in the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Open Sans"/>
                <a:ea typeface="Open Sans"/>
                <a:hlinkClick r:id="rId1"/>
              </a:rPr>
              <a:t>LSHTM Research Data Management Policy</a:t>
            </a:r>
            <a:r>
              <a:rPr b="0" lang="en-GB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Many research funders require a data management plan to be submitted as part of a research bid. This includes UKRI funders (ESRC, MRC, EPSRC), Wellcome Trust and Gates Foundation. Other funders, such as the European Commission, indicate a full DMP must be produced as a deliverable within 6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247680" y="4932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Preparing a Data Management Plan for research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2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98440" y="5846760"/>
          <a:ext cx="6426360" cy="750960"/>
        </p:xfrm>
        <a:graphic>
          <a:graphicData uri="http://schemas.openxmlformats.org/drawingml/2006/table">
            <a:tbl>
              <a:tblPr/>
              <a:tblGrid>
                <a:gridCol w="6426360"/>
              </a:tblGrid>
              <a:tr h="75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11"/>
          <p:cNvSpPr/>
          <p:nvPr/>
        </p:nvSpPr>
        <p:spPr>
          <a:xfrm>
            <a:off x="3436920" y="94330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12840" y="5326200"/>
          <a:ext cx="6280200" cy="3916080"/>
        </p:xfrm>
        <a:graphic>
          <a:graphicData uri="http://schemas.openxmlformats.org/drawingml/2006/table">
            <a:tbl>
              <a:tblPr/>
              <a:tblGrid>
                <a:gridCol w="6280200"/>
              </a:tblGrid>
              <a:tr h="4044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gui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and worked examples for funder-specific DMPs may be accessed through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 on Sharepoint and Servicede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ers performing clinical trials should consult the LSHTM Data Management Plan template in appendix 1 of the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4"/>
                        </a:rPr>
                        <a:t>Data Management for Clinical Trials SOP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(LSHTM SOP 037). Sample text from the generic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5"/>
                        </a:rPr>
                        <a:t>LSHTM DMP template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ay also be incorpora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Training events for staff and students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training and drop-in sessions are available via the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in your research and feedback on a draft data management plan, contact the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6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 by emailing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840" y="4200480"/>
          <a:ext cx="6294240" cy="933480"/>
        </p:xfrm>
        <a:graphic>
          <a:graphicData uri="http://schemas.openxmlformats.org/drawingml/2006/table">
            <a:tbl>
              <a:tblPr/>
              <a:tblGrid>
                <a:gridCol w="6294240"/>
              </a:tblGrid>
              <a:tr h="933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DMP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he DMPOnline (https://dmponline.dcc.ac.uk/) platform offers DMP templates for all major UK and EU funding bodies, with supplementary guidance written by the research communit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5T09:32:50Z</cp:lastPrinted>
  <dcterms:modified xsi:type="dcterms:W3CDTF">2025-09-01T15:02:10Z</dcterms:modified>
  <cp:revision>623</cp:revision>
  <dc:subject/>
  <dc:title>PowerPoint Presentation</dc:title>
</cp:coreProperties>
</file>