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816-8025-462A-9696-AAC396BB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8755-0FE2-4B2E-9F71-315F1787B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1F7-020A-448A-B237-70876C34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41D-BDE2-4D53-BED4-0DFBC187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ADA-E79C-4E4E-9FC8-3781CDAF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AAA-191E-454C-934F-AB60CDE9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347-0FF4-4B40-A411-3C34E64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C28-9EF2-4CE6-9AC1-50D7E6E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742-F799-46D5-B6F4-51FADB89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E11-B646-4073-A56D-BE28234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EBF-8048-4FF9-97DB-A014254A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4B9-B446-45BB-92B6-98528F4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6DA-01BD-4BC3-B45E-9BF3681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688-60BF-44AD-8115-372ECB8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5F50-E585-4128-8501-EF9FFB7E9544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174600" y="1101600"/>
            <a:ext cx="65232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Research files should be organized and labelled in a consistent, meaningful manner to enable information to be quickly loc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During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onsider key information to record and the order in should be presented to organize resources into logical groups. Identify disciplinary conventions that may be relev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Trial the convention with suitable resources to determine if it is fit for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Document the convention in a research protocol or similar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During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Ensure study members are aware of the convention and able to apply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Monitor take-up of the convention and perform remedial action where appropriate. Remind study members of the need to be consistent in their appro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onsider limitations of the current approach. Does it remain fit for purp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On completion of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onsider if the convention is still fit for purpose. Are changes needed to enable use by a different audi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174600" y="23220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Organise and label research files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2" descr="lshtm_logo WO.tif"/>
          <p:cNvPicPr/>
          <p:nvPr/>
        </p:nvPicPr>
        <p:blipFill>
          <a:blip r:embed="rId1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498760" y="9367920"/>
            <a:ext cx="419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 Reviewed: 1 September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2120" y="5635800"/>
          <a:ext cx="6458040" cy="193824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19382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How to Label resources clearly and consistent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Apply a consistent format when naming folders, files, variables, or other items. Consider key information to record, such as participate ID, capture date, topic,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rder information in a way that groups similar items together. E.g., participant 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Use clear separators to make labels easy to read. E.g., underscores/hyphens to separate parts and consistent use of capitalization (e.g., all lowercase or CamelCas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6000" y="8589960"/>
          <a:ext cx="6411960" cy="73512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74916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advice on data management practices that apply to your research study, contact the LSHTM Research Data Manager at researchdatamanagement@lshtm.ac.u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30040" y="7564320"/>
          <a:ext cx="6411960" cy="103500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10350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ance on data organisation are available on LSHTM’s </a:t>
                      </a: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search Data Management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gular training is available through LSHTM Doctoral Transferable Skills and Talent and Education Development (TED) programm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3T10:17:35Z</cp:lastPrinted>
  <dcterms:modified xsi:type="dcterms:W3CDTF">2025-09-01T15:00:58Z</dcterms:modified>
  <cp:revision>609</cp:revision>
  <dc:subject/>
  <dc:title>PowerPoint Presentation</dc:title>
</cp:coreProperties>
</file>