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9849-AB87-420B-8079-D3794481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E45A-0B87-4D37-9449-DC2B14724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92B-B6CC-4C89-A995-E07FA7CD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FF8-769B-44CD-A34E-D7181404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8DE-2E43-453F-9FCF-29475972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C0A-712E-459E-94A0-21F90D41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DF7-A0FB-4CBD-A042-A3C8453F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9C4-B861-4ED6-A2A5-C68EC12B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A0E-2781-47C2-980F-517EC485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2DC-16A4-4740-93FC-DB6ACCDC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F8B-4FA4-4F98-864F-DD40A9C9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DDB-5B6E-4436-A8AB-412081CE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876-3894-4D78-94CB-A2935C5D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C62-66CD-4565-8B6E-1E6A7F8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8065-9967-4CCE-9F78-DF65ED3A4A97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4600" y="1019160"/>
            <a:ext cx="644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To ensure research data can be shared with other researchers, resources must be allocated to fulfil requirements and address barriers at the start of a project. This will ensure a measured approach can be adopted that protects study participants and maximises research opportun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181080" y="23220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Preparing research data for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2" descr="lshtm_logo WO.tif"/>
          <p:cNvPicPr/>
          <p:nvPr/>
        </p:nvPicPr>
        <p:blipFill>
          <a:blip r:embed="rId1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69920" y="4087800"/>
          <a:ext cx="6450120" cy="3406680"/>
        </p:xfrm>
        <a:graphic>
          <a:graphicData uri="http://schemas.openxmlformats.org/drawingml/2006/table">
            <a:tbl>
              <a:tblPr/>
              <a:tblGrid>
                <a:gridCol w="3225600"/>
                <a:gridCol w="3224520"/>
              </a:tblGrid>
              <a:tr h="340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asons to make data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Enhanced impact</a:t>
                      </a:r>
                      <a:r>
                        <a:rPr b="0" lang="en-GB" sz="11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ain credit for all research outputs, not just pap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More citations:</a:t>
                      </a:r>
                      <a:r>
                        <a:rPr b="0" lang="en-GB" sz="11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udies suggest publication with accompanying data receive more citations (Piwowar &amp; Vision, 201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producibility:</a:t>
                      </a:r>
                      <a:r>
                        <a:rPr b="0" lang="en-GB" sz="11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Data is easier to verify, increasing confidence in its valid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Enable new research:</a:t>
                      </a:r>
                      <a:r>
                        <a:rPr b="0" lang="en-GB" sz="11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Data can be used for new and innovative research, which in turn increases your citation rate and repu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Equitable research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reater openness ensures research can be accessed and used by researchers working in Low-, Middle- and High-income count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asons to withhold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Participant consent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Consent did not address sharing requirements, due to study ag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Third party IPR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Data provider or other party will not provide permission to sha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Commercial use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Research will be used as a basis for a patent application or contains commercially confident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Anonymisation issues</a:t>
                      </a:r>
                      <a:r>
                        <a:rPr b="0" lang="en-GB" sz="11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Information cannot be removed without loss of contex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Potential harm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Research participants or others may suffer repercussions if information were made publ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71360" y="2127240"/>
          <a:ext cx="6450120" cy="1941480"/>
        </p:xfrm>
        <a:graphic>
          <a:graphicData uri="http://schemas.openxmlformats.org/drawingml/2006/table">
            <a:tbl>
              <a:tblPr/>
              <a:tblGrid>
                <a:gridCol w="6450120"/>
              </a:tblGrid>
              <a:tr h="1952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Factors to consider when planning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Why are the resources being shar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What resources will be made available? Data, code, collection tool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What actions need to be performed to enable sharing? E.g. obtain participant consent, develop a licence agreements, investigate access control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When will the resources be made available? At the same time as a journal paper, on project completion, 1 year after project completion, or some other perio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Where will they be hosted? E.g. a specific digital repositor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1"/>
          <p:cNvSpPr/>
          <p:nvPr/>
        </p:nvSpPr>
        <p:spPr>
          <a:xfrm>
            <a:off x="3560760" y="9388440"/>
            <a:ext cx="32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. Reviewed: 1 September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9920" y="8466120"/>
          <a:ext cx="6411960" cy="827280"/>
        </p:xfrm>
        <a:graphic>
          <a:graphicData uri="http://schemas.openxmlformats.org/drawingml/2006/table">
            <a:tbl>
              <a:tblPr/>
              <a:tblGrid>
                <a:gridCol w="6411960"/>
              </a:tblGrid>
              <a:tr h="8272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Book an appoin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or advice on data management and sharing costs that apply to your research study, contact the LSHTM Research Data Manager at researchdatamanagement@lshtm.ac.u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69920" y="7475400"/>
          <a:ext cx="6411960" cy="995400"/>
        </p:xfrm>
        <a:graphic>
          <a:graphicData uri="http://schemas.openxmlformats.org/drawingml/2006/table">
            <a:tbl>
              <a:tblPr/>
              <a:tblGrid>
                <a:gridCol w="6411960"/>
              </a:tblGrid>
              <a:tr h="9954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Data sharing guidance is available on LSHTM’s 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search Data Management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ag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Regular training for staff and students are delivered via the LSHTM Doctoral Transferable Skills and Talent and Education Development (TED) program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4T16:53:55Z</cp:lastPrinted>
  <dcterms:modified xsi:type="dcterms:W3CDTF">2025-09-01T14:58:00Z</dcterms:modified>
  <cp:revision>618</cp:revision>
  <dc:subject/>
  <dc:title>PowerPoint Presentation</dc:title>
</cp:coreProperties>
</file>