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09600" y="744120"/>
            <a:ext cx="25779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61E7-8BB8-44AE-8924-E2CA5A7F7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2109960" y="744480"/>
            <a:ext cx="2577960" cy="372276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8F2B-B869-4E85-983F-3678B44D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1AA-9F59-4AE8-8493-0C8D5B0D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144-F754-423F-97F4-70BDC1D7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F759-4C2D-4DA7-B76C-F4B59C6A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ACB-E916-4009-A191-47310AF5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9EC-0AFA-4182-955B-A6D04188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B3D-0065-417C-8560-204F0F21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FB8-20CE-445F-8E27-02AA4427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893-08FB-4C6F-9372-86ADF9E1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120"/>
            <a:ext cx="5829120" cy="76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893-50C9-46B1-AE90-E674E067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AD6-87FB-416E-B9E9-EC3F19A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89A-EA31-49D7-9C18-B0A546CE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E92-29BF-4C7C-86A5-26253912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6000"/>
          </a:bodyPr>
          <a:p>
            <a:pPr marL="327240" indent="-3272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714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32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1800" indent="-218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D2BB-4F6D-48D0-8575-A35CE2830ACF}" type="slidenum"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lshtm.sharepoint.com/sites/intranet-library-archive-and-open-research-services/SitePages/Research-Data-Management.aspx" TargetMode="External"/><Relationship Id="rId3" Type="http://schemas.openxmlformats.org/officeDocument/2006/relationships/hyperlink" Target="https://lshtm.topdesk.net/tas/public/ssp/content/detail/service?unid=2faf1cff0982450693be797b3fefa950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-8280360" y="3084480"/>
            <a:ext cx="1839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74600" y="1031760"/>
            <a:ext cx="65232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Research data management is an integral part of good research practice that protects the intellectual and financial investment made its creation and ensures research findings can be validated and reproduced.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4600" y="1882800"/>
          <a:ext cx="6523200" cy="2424240"/>
        </p:xfrm>
        <a:graphic>
          <a:graphicData uri="http://schemas.openxmlformats.org/drawingml/2006/table">
            <a:tbl>
              <a:tblPr/>
              <a:tblGrid>
                <a:gridCol w="6523200"/>
              </a:tblGrid>
              <a:tr h="2426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What resources should be manage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All resources produced and used during research requires management​, irrespective of who collected them, how they were obtained, and the form they take. These includ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Qualitative material such as audio recordings and transcri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Quantitative data held in spreadsheets, databases and other structured 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Models for simulations and experi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Questionnaires, interview guides and other research to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Field notes produced during ethnographic resea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Code such as source code, processing scripts, executable tools and similar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Priority should be given to resources needed to validate and reproduce your researc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81"/>
          <p:cNvSpPr/>
          <p:nvPr/>
        </p:nvSpPr>
        <p:spPr>
          <a:xfrm>
            <a:off x="0" y="9620280"/>
            <a:ext cx="6873840" cy="2858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101520" y="9653760"/>
            <a:ext cx="495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Improving health world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172120" y="96537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ww.lshtm.ac.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6873840" cy="9320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174600" y="49320"/>
            <a:ext cx="49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Research Data Management: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An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42" descr="lshtm_logo WO.tif"/>
          <p:cNvPicPr/>
          <p:nvPr/>
        </p:nvPicPr>
        <p:blipFill>
          <a:blip r:embed="rId1"/>
          <a:stretch/>
        </p:blipFill>
        <p:spPr>
          <a:xfrm>
            <a:off x="5432400" y="135000"/>
            <a:ext cx="124776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74600" y="4408560"/>
          <a:ext cx="6523200" cy="3422520"/>
        </p:xfrm>
        <a:graphic>
          <a:graphicData uri="http://schemas.openxmlformats.org/drawingml/2006/table">
            <a:tbl>
              <a:tblPr/>
              <a:tblGrid>
                <a:gridCol w="6523200"/>
              </a:tblGrid>
              <a:tr h="3422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Why plan data manageme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Data management planning benefits your research in several way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Ensure quality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you can collect and process data suitable for your research need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Save time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you will have a better understanding of the tasks that must be performed, requirements to be met, and how much time they will requi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Manage risk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you can recognise potential problems and take steps to avoid or reduce the likelihood that they will occ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Research can be verified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Others will have greater confidence in your research if the data on which it is built can be checked and confirm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Ethical and legal compliance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study participants, collaborators, sponsors, funders and other needs can be recognised in advance and addressed according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Failure to consider data management issues may result in unexpected problems; you may be unable to fulfil your research objectives or may require more time, funds, or other resources than expected.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1"/>
          <p:cNvSpPr/>
          <p:nvPr/>
        </p:nvSpPr>
        <p:spPr>
          <a:xfrm>
            <a:off x="3324240" y="9435960"/>
            <a:ext cx="329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Open Sans"/>
                <a:ea typeface="Open Sans"/>
              </a:rPr>
              <a:t>https://doi.org/10.17037/DATA.50. Reviewed: September 1, 20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4600" y="7834320"/>
          <a:ext cx="6499080" cy="1522440"/>
        </p:xfrm>
        <a:graphic>
          <a:graphicData uri="http://schemas.openxmlformats.org/drawingml/2006/table">
            <a:tbl>
              <a:tblPr/>
              <a:tblGrid>
                <a:gridCol w="6499080"/>
              </a:tblGrid>
              <a:tr h="15224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LSHTM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Guides are available on LSHTM’s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2"/>
                        </a:rPr>
                        <a:t>Research Data Management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Sharepoint pag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Staff/student training are available via the LSHTM Doctoral Transferable Skills and Talent and Education Development (TED) program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For one-to-one support, contact the LSHTM Research Data Manager via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3"/>
                        </a:rPr>
                        <a:t>Servicedesk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 or researchdatamanagement@lshtm.ac.u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9T12:19:10Z</dcterms:created>
  <dc:creator>Anne Koerber</dc:creator>
  <dc:description/>
  <dc:language>en-US</dc:language>
  <cp:lastModifiedBy>Gareth Knight</cp:lastModifiedBy>
  <cp:lastPrinted>2017-07-03T10:17:35Z</cp:lastPrinted>
  <dcterms:modified xsi:type="dcterms:W3CDTF">2025-09-01T14:59:46Z</dcterms:modified>
  <cp:revision>595</cp:revision>
  <dc:subject/>
  <dc:title>PowerPoint Presentation</dc:title>
</cp:coreProperties>
</file>