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2848-C8F7-4B76-850F-5B09549B0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73E2-24C7-4313-8019-09EEA939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91F-28CF-4F9C-8C82-12C03EBE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A34-1A4D-4D61-93ED-3DC04BC5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E53-6C1D-40C5-8DB0-1A312316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F93-A448-4985-B6EE-818B3E9F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5FB-3EB7-4203-95B1-7CFD1BA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AE4-3C81-44C8-9271-BB1EE218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B29-E8B9-41A3-BE5F-A8015EE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26D-176A-416E-A934-79759A39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3F1-21FB-440B-8228-17291B23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1C2-A57F-461B-A1DE-84F7844F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3B4-D7BF-40F2-9325-177EAAC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418-582C-41E9-A045-65271E2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3E7-67DE-47BA-9842-4C5A04C4349D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doi.org/10.17037/PUBS.03716765" TargetMode="External"/><Relationship Id="rId2" Type="http://schemas.openxmlformats.org/officeDocument/2006/relationships/hyperlink" Target="https://lshtm.sharepoint.com/sites/intranet-research-governance-and-integrity/SitePages/Standard-Operating-Procedures-(SOPs).aspx" TargetMode="External"/><Relationship Id="rId3" Type="http://schemas.openxmlformats.org/officeDocument/2006/relationships/hyperlink" Target="https://www.lshtm.ac.uk/sites/default/files/research_data_management_policy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s://lshtm.sharepoint.com/sites/intranet-library-archive-and-open-research-services/SitePages/Research-Data-Management.aspx" TargetMode="External"/><Relationship Id="rId6" Type="http://schemas.openxmlformats.org/officeDocument/2006/relationships/hyperlink" Target="https://lshtm.topdesk.net/tas/public/ssp/content/detail/service?unid=2faf1cff0982450693be797b3fefa950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31840" y="1036800"/>
            <a:ext cx="64659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A Data Management Plan is a document that describes how research data will be handled during a project and following its completion. LSHTM researchers should prepare a Data Management Plan for their project at the earliest opportun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9120" y="2309760"/>
          <a:ext cx="6419880" cy="4502160"/>
        </p:xfrm>
        <a:graphic>
          <a:graphicData uri="http://schemas.openxmlformats.org/drawingml/2006/table">
            <a:tbl>
              <a:tblPr/>
              <a:tblGrid>
                <a:gridCol w="6419880"/>
              </a:tblGrid>
              <a:tr h="4595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expectations for data management planning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ublic or private funded projects that are capturing or creating data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Open Sans"/>
                          <a:ea typeface="Open Sans"/>
                        </a:rPr>
                        <a:t>mus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 prepare a Data Management Plan to ensure adequate steps are taken to manage research fil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nsultancy work, unfunded research and projects without a data component are exempt from LSHTM’s DMP requir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If your research funder does not provide a DMP template, the LSHTM template at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1"/>
                        </a:rPr>
                        <a:t>https://doi.org/10.17037/PUBS.03716765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ay be used. 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linical trials should consult the LSHTM Data Management Plan template in appendix 1 of the </a:t>
                      </a: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2"/>
                        </a:rPr>
                        <a:t>Data Management for Clinical Trials SOP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(LSHTM SOP 037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Phil/PhD/DrPH students should prepare a Data Management Plan using the template at https://doi.org/10.17037/PUBS.03750331 and include it in their Upgrading or Review report as an appendi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Sc Students performing research in pursuit of a qualification are not required to write a DMP. However, data management issues must be considered when planning research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urther information can be found in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3"/>
                        </a:rPr>
                        <a:t>Research Data Management Policy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4600" y="4932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LSHTM support for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Data Management Planning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2" descr="lshtm_logo WO.tif"/>
          <p:cNvPicPr/>
          <p:nvPr/>
        </p:nvPicPr>
        <p:blipFill>
          <a:blip r:embed="rId4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49120" y="6826320"/>
          <a:ext cx="6448680" cy="2306520"/>
        </p:xfrm>
        <a:graphic>
          <a:graphicData uri="http://schemas.openxmlformats.org/drawingml/2006/table">
            <a:tbl>
              <a:tblPr/>
              <a:tblGrid>
                <a:gridCol w="6448680"/>
              </a:tblGrid>
              <a:tr h="2377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ance and worked examples for LSHTM and funder DMPs may be accessed through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5"/>
                        </a:rPr>
                        <a:t>Research Data Management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 on Sharepoint and Servicede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and drop-in sessions are available via the LSHTM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To obtain advice on data management within your project and/or obtain feedback on a draft data management plan, contact the Research Data Manager via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6"/>
                        </a:rPr>
                        <a:t>Servicedesk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r emailing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436920" y="943308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11 August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4T16:37:17Z</cp:lastPrinted>
  <dcterms:modified xsi:type="dcterms:W3CDTF">2025-09-01T15:05:04Z</dcterms:modified>
  <cp:revision>605</cp:revision>
  <dc:subject/>
  <dc:title>PowerPoint Presentation</dc:title>
</cp:coreProperties>
</file>