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1123-CA83-4CA3-8B62-136153DE7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109960" y="744480"/>
            <a:ext cx="2577960" cy="3722760"/>
          </a:xfrm>
          <a:prstGeom prst="rect">
            <a:avLst/>
          </a:prstGeom>
          <a:ln w="0">
            <a:noFill/>
          </a:ln>
        </p:spPr>
      </p:sp>
      <p:sp>
        <p:nvSpPr>
          <p:cNvPr id="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5452-6AE6-4564-B98A-B4EDF1595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049C2-7CF9-4153-9712-7862C63EA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AFE4-9128-4A3D-9608-76B7CE33B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9BEB7-23D6-4933-BBC4-0DBD3C6B0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70412-3796-422C-AB26-6D5DC98A0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9B93-39CA-44D3-BB78-70651C82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462CB-1D58-47B9-99A5-5BB2BAC9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0D86-AF15-4C20-A153-B892A156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AD28B-0204-4E7A-A880-C0647EDA6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336E-9120-48FA-8B88-9A17AB44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9D01-C711-405E-BC99-212DCDEE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360B-A03E-4E59-A257-3102A567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F6F5-31CE-41FC-A398-17120E49A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113E-9602-49A7-AE13-38AD51B50B1A}"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364440" cy="86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A retention period represents the time span that an item will be kept. At the end of this period, the item should be appraised to decide if it is still needed or should be destroyed/transferred elsewhere</a:t>
            </a:r>
            <a:endParaRPr b="0" lang="en-US" sz="1400" spc="-1" strike="noStrike">
              <a:solidFill>
                <a:srgbClr val="000000"/>
              </a:solidFill>
              <a:latin typeface="Arial"/>
            </a:endParaRPr>
          </a:p>
        </p:txBody>
      </p:sp>
      <p:graphicFrame>
        <p:nvGraphicFramePr>
          <p:cNvPr id="50" name=""/>
          <p:cNvGraphicFramePr/>
          <p:nvPr/>
        </p:nvGraphicFramePr>
        <p:xfrm>
          <a:off x="174600" y="1955880"/>
          <a:ext cx="6364440" cy="6367320"/>
        </p:xfrm>
        <a:graphic>
          <a:graphicData uri="http://schemas.openxmlformats.org/drawingml/2006/table">
            <a:tbl>
              <a:tblPr/>
              <a:tblGrid>
                <a:gridCol w="6364440"/>
              </a:tblGrid>
              <a:tr h="658476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000000"/>
                          </a:solidFill>
                          <a:latin typeface="Open Sans"/>
                          <a:ea typeface="Open Sans"/>
                        </a:rPr>
                        <a:t>Many organisations specify retention requirements for research data:</a:t>
                      </a:r>
                      <a:endParaRPr b="0" lang="en-US" sz="14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ondon School of Hygiene &amp; Tropical Medicine</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Research data must be kept for a </a:t>
                      </a:r>
                      <a:r>
                        <a:rPr b="0" lang="en-GB" sz="1200" spc="-1" strike="noStrike" u="sng">
                          <a:solidFill>
                            <a:srgbClr val="000000"/>
                          </a:solidFill>
                          <a:uFillTx/>
                          <a:latin typeface="Open Sans"/>
                          <a:ea typeface="Open Sans"/>
                        </a:rPr>
                        <a:t>minimum of 10 years following study completion</a:t>
                      </a:r>
                      <a:r>
                        <a:rPr b="0" lang="en-GB" sz="1200" spc="-1" strike="noStrike">
                          <a:solidFill>
                            <a:srgbClr val="000000"/>
                          </a:solidFill>
                          <a:latin typeface="Open Sans"/>
                          <a:ea typeface="Open Sans"/>
                        </a:rPr>
                        <a:t>, in accordance with the LSHTM Retention and Disposal Schedule. Research data typically only needs to be kept in one form - paper material may not be needed if  the same information is held in digital form.</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2f8f82"/>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2f8f82"/>
                          </a:solidFill>
                          <a:latin typeface="Open Sans"/>
                          <a:ea typeface="Open Sans"/>
                        </a:rPr>
                        <a:t>​</a:t>
                      </a:r>
                      <a:r>
                        <a:rPr b="0" lang="en-GB" sz="1200" spc="-1" strike="noStrike">
                          <a:solidFill>
                            <a:srgbClr val="1f6057"/>
                          </a:solidFill>
                          <a:latin typeface="Open Sans"/>
                          <a:ea typeface="Open Sans"/>
                        </a:rPr>
                        <a:t>Research funder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Many funders state research data must be kept for a minimum of 10 years following study completion, with some stating longer retention periods. The Medical Research Council (MRC) requires clinical and population health studies to be </a:t>
                      </a:r>
                      <a:r>
                        <a:rPr b="0" lang="en-GB" sz="1200" spc="-1" strike="noStrike" u="sng">
                          <a:solidFill>
                            <a:srgbClr val="000000"/>
                          </a:solidFill>
                          <a:uFillTx/>
                          <a:latin typeface="Open Sans"/>
                          <a:ea typeface="Open Sans"/>
                        </a:rPr>
                        <a:t>kept for 20+ years</a:t>
                      </a:r>
                      <a:r>
                        <a:rPr b="0" lang="en-GB" sz="1200" spc="-1" strike="noStrike">
                          <a:solidFill>
                            <a:srgbClr val="000000"/>
                          </a:solidFill>
                          <a:latin typeface="Open Sans"/>
                          <a:ea typeface="Open Sans"/>
                        </a:rPr>
                        <a:t>; whereas the Engineering and Physical Sciences Research Council (EPSRC) require funded research to be "securely preserved for a minimum of 10-years after the data was last requested by a third party“.</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Journal publisher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Many journals state that resources which underpin findings should be available openly or on request for a </a:t>
                      </a:r>
                      <a:r>
                        <a:rPr b="0" lang="en-GB" sz="1200" spc="-1" strike="noStrike" u="sng">
                          <a:solidFill>
                            <a:srgbClr val="000000"/>
                          </a:solidFill>
                          <a:uFillTx/>
                          <a:latin typeface="Open Sans"/>
                          <a:ea typeface="Open Sans"/>
                        </a:rPr>
                        <a:t>minimum of 10 years following the paper's publication</a:t>
                      </a:r>
                      <a:r>
                        <a:rPr b="0" lang="en-GB" sz="1200" spc="-1" strike="noStrike">
                          <a:solidFill>
                            <a:srgbClr val="000000"/>
                          </a:solidFill>
                          <a:latin typeface="Open Sans"/>
                          <a:ea typeface="Open Sans"/>
                        </a:rPr>
                        <a: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UK legislation</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The UK Data Protection Act states that personal information contained in research data </a:t>
                      </a:r>
                      <a:r>
                        <a:rPr b="0" lang="en-GB" sz="1200" spc="-1" strike="noStrike" u="sng">
                          <a:solidFill>
                            <a:srgbClr val="000000"/>
                          </a:solidFill>
                          <a:uFillTx/>
                          <a:latin typeface="Open Sans"/>
                          <a:ea typeface="Open Sans"/>
                        </a:rPr>
                        <a:t>must be kept only for the time period necessary </a:t>
                      </a:r>
                      <a:r>
                        <a:rPr b="0" lang="en-GB" sz="1200" spc="-1" strike="noStrike">
                          <a:solidFill>
                            <a:srgbClr val="000000"/>
                          </a:solidFill>
                          <a:latin typeface="Open Sans"/>
                          <a:ea typeface="Open Sans"/>
                        </a:rPr>
                        <a:t>to fulfil the intended purpose.</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Domain requirement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The ICH Guideline for Good Clinical Practice states "Essential documents should be retained until at least </a:t>
                      </a:r>
                      <a:r>
                        <a:rPr b="0" lang="en-GB" sz="1200" spc="-1" strike="noStrike" u="sng">
                          <a:solidFill>
                            <a:srgbClr val="000000"/>
                          </a:solidFill>
                          <a:uFillTx/>
                          <a:latin typeface="Open Sans"/>
                          <a:ea typeface="Open Sans"/>
                        </a:rPr>
                        <a:t>2 years after the last approval </a:t>
                      </a:r>
                      <a:r>
                        <a:rPr b="0" lang="en-GB" sz="1200" spc="-1" strike="noStrike">
                          <a:solidFill>
                            <a:srgbClr val="000000"/>
                          </a:solidFill>
                          <a:latin typeface="Open Sans"/>
                          <a:ea typeface="Open Sans"/>
                        </a:rPr>
                        <a:t>of a marketing application in an ICH region" or longer if required by regulatory requirements or sponsor agreement.</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Data provider</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Secondary data are often covered by a licence agreement outlining its retention period, e.g. the duration of the PhD, after which it must be deleted.</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74600" y="49320"/>
            <a:ext cx="49784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Determine the time period that research data should be kept​</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8464680"/>
          <a:ext cx="6364440" cy="777600"/>
        </p:xfrm>
        <a:graphic>
          <a:graphicData uri="http://schemas.openxmlformats.org/drawingml/2006/table">
            <a:tbl>
              <a:tblPr/>
              <a:tblGrid>
                <a:gridCol w="6364440"/>
              </a:tblGrid>
              <a:tr h="77760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Book an appointmen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o discuss your data retention plan, contact the LSHTM Research Data Manager at researchdatamanagement@lshtm.ac.uk.</a:t>
                      </a:r>
                      <a:endParaRPr b="0" lang="en-US" sz="1200" spc="-1" strike="noStrike">
                        <a:solidFill>
                          <a:srgbClr val="000000"/>
                        </a:solidFill>
                        <a:latin typeface="Arial"/>
                      </a:endParaRPr>
                    </a:p>
                  </a:txBody>
                  <a:tcPr anchor="ctr" marL="91440" marR="91440">
                    <a:lnL>
                      <a:noFill/>
                    </a:lnL>
                    <a:lnR>
                      <a:noFill/>
                    </a:lnR>
                    <a:lnT>
                      <a:noFill/>
                    </a:lnT>
                    <a:lnB w="2880">
                      <a:solidFill>
                        <a:srgbClr val="2f8f82"/>
                      </a:solidFill>
                    </a:lnB>
                    <a:noFill/>
                  </a:tcPr>
                </a:tc>
              </a:tr>
            </a:tbl>
          </a:graphicData>
        </a:graphic>
      </p:graphicFrame>
      <p:sp>
        <p:nvSpPr>
          <p:cNvPr id="58" name="TextBox 11"/>
          <p:cNvSpPr/>
          <p:nvPr/>
        </p:nvSpPr>
        <p:spPr>
          <a:xfrm>
            <a:off x="3560760" y="942660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37:39Z</dcterms:modified>
  <cp:revision>608</cp:revision>
  <dc:subject/>
  <dc:title>PowerPoint Presentation</dc:title>
</cp:coreProperties>
</file>